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918-BA22-48FD-A240-14BB1BAA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E1E-8D92-434F-83E9-F9E9004C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58D-8944-47FE-9687-FEE32E53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5E2-1F28-4DC2-A0BB-68FC3B38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699-1F1D-4818-8FC5-551D09D0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D5F-2FCC-4CD1-B82F-04B8A41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5F0-EBAF-4E08-9926-F3D32002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128-F649-409C-9EC0-409C3F1B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BB9-2C8C-471E-A833-F0D2D797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E61-C0AF-4001-B966-1130935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67B-9505-42AD-A0DF-EF10E4E6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0C3-BF2A-48FE-BE8D-07E3AEC7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CEECAA-C18C-4A71-9968-C359F41326A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B619E-5851-4954-A206-9C6ECDC19D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noun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 to L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Exampl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Joy helped herself to some turkey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ally and John poured themselves the mil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he boy could smell himself from a mile away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he mayor herself attended the carni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rank fixed the refrigerator himsel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 graded the papers myself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directs attention to specific  people, places, or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may come before or after their anteced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i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s the person we want to hi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s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are the books we will rea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3505320"/>
          <a:ext cx="6096240" cy="914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s, th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se, t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lative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l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begins a subordinate clause and connects it to another idea in the sent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 ate the cupcak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at was on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James is the studen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 was late toda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e visited Grandmother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se house is in N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2879640"/>
          <a:ext cx="4876560" cy="792360"/>
        </p:xfrm>
        <a:graphic>
          <a:graphicData uri="http://schemas.openxmlformats.org/drawingml/2006/table">
            <a:tbl>
              <a:tblPr/>
              <a:tblGrid>
                <a:gridCol w="487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Relative Pronou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at      which     who      whom     w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: is used to begin a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 interrogative pronoun may or may not have a specific anteced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a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o you mea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ic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of the kids dressed up as a ghos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3880" y="2509920"/>
          <a:ext cx="6096240" cy="79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Interrogative Pronou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hat      which     who     whom      w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definit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s to a person, place, or thing that may or may not be specifically nam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lthough indefinite pronouns do not require specific antecedents, they often have th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 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evera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have visited Williamsbur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prepared a re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definit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17680"/>
          <a:ext cx="8001000" cy="4336920"/>
        </p:xfrm>
        <a:graphic>
          <a:graphicData uri="http://schemas.openxmlformats.org/drawingml/2006/table">
            <a:tbl>
              <a:tblPr/>
              <a:tblGrid>
                <a:gridCol w="3186000"/>
                <a:gridCol w="2148120"/>
                <a:gridCol w="26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38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ther, anybody, anyone, anything, each, either, everybody, everyone, everything, little, much, neither, nobody, no one, nothing, one, other, somebody, someone, some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pronouns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e wouldn’t say, “Michael said Michael lost Michael’s watch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her, one should say, “Michael said he lost his watch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nouns are words that stand for nouns or for words that take the place of nou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re nouns (or words that take the place of nouns) for which the pronouns st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s do not always appear before their pronouns; sometimes, the antecedent follows its pronou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oun fir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abrin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unpack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compu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nd turn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Going to classe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might keep you busy, 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is necessar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ronoun fir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ft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graduated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Brand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got the job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lways dreamed of in Florid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 am sure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did her homework;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all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is usually very studio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 t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 speaking (first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 spoken to (second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the person, place, or thing spoken about (third pers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600200"/>
          <a:ext cx="6934320" cy="495000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I, me, my, m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e, us, our, 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e, him, his, she, her, hers, it, 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y, them, their, thei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Paul drove up, everyone piled in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ring the storm, the house lo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it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en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you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ing to sleep, 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thei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itcases packed, the Joneses left forev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: ends in –self or –selves and indicated that someone or something performs an action to, for, or upon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oints back to a noun or pronoun earlier in the sentenc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Essential to meaning of sente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: ends in –self or –selves and “intensifies” by adding emphasis to a noun or pronoun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n-essential. Can be omitted and still makes sen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981080"/>
          <a:ext cx="8229600" cy="1828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8cada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cadae"/>
                      </a:solidFill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imself, herself, itsel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msel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cadae"/>
                      </a:solidFill>
                    </a:lnR>
                    <a:lnT w="5760">
                      <a:solidFill>
                        <a:srgbClr val="8cadae"/>
                      </a:solidFill>
                    </a:lnT>
                    <a:lnB w="5760">
                      <a:solidFill>
                        <a:srgbClr val="8cadae"/>
                      </a:solidFill>
                    </a:lnB>
                    <a:solidFill>
                      <a:srgbClr val="e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15:08:42Z</dcterms:created>
  <dc:creator>ndadmin</dc:creator>
  <dc:description/>
  <dc:language>en-US</dc:language>
  <cp:lastModifiedBy>sitter</cp:lastModifiedBy>
  <cp:lastPrinted>2008-10-28T17:38:10Z</cp:lastPrinted>
  <dcterms:modified xsi:type="dcterms:W3CDTF">2013-09-18T20:08:51Z</dcterms:modified>
  <cp:revision>10</cp:revision>
  <dc:subject/>
  <dc:title>Pronouns  </dc:title>
</cp:coreProperties>
</file>