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865-51E5-46FC-8C8E-42B4DC87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ED4-E8CF-4EF2-A5E4-98D6F21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D0C-EE7F-4F93-9A1C-951BF4A5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569-659D-4963-A2A0-BF6FFFB1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6FF-AC66-4219-AB7B-D75BAE6A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445-5B12-4A24-BCCE-BEBB515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ED5-B583-477E-9A35-C3E0638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90E-F7C7-4BB4-9952-12BD1BD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9ED-3517-4B49-A318-24F91D4C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397-97E7-4784-BC62-B3CE891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91B-295A-461B-8656-B737FB4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18E-5E97-474E-8429-097557D7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2DC55-8222-49EF-B5A8-A9D7F76DF7C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E1E2F-5DB0-4619-BEBC-57C6FC29A3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noun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 to L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Exampl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Joy helped herself to some turkey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ally and John poured themselves the mil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boy could smell himself from a mile aw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mayor herself attended the carni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rank fixed the refrigerator him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 graded the papers my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directs attention to specific  people, places, or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ay come before or after their antece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i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s the person we want to hi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re the books we will rea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3505320"/>
          <a:ext cx="6096240" cy="91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l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begins a subordinate clause and connects it to another idea in the sent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te the cupca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James is the studen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 was late tod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e visited Grandmother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se house is in N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2879640"/>
          <a:ext cx="4876560" cy="79236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which     who      whom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is 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 interrogative pronoun may or may not have a specific antece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o you mea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ic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 the kids dressed up as a ghos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2509920"/>
          <a:ext cx="6096240" cy="79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Interrog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hat      which     who     whom 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pronouns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wouldn’t say, “Michael said Michael lost Michael’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her, one should say, “Michael said he lost hi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nouns are words that stand for nouns or for words that take the place of nou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nouns (or words that take the place of nouns) for which the pronouns st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do not always appear before their pronouns; sometimes, the antecedent follows its prono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bri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unpack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ompu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nd tu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Going to class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ight keep you busy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f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raduated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Brand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ot the job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lways dreamed of in Florid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m sur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did her homework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ll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s usually very studio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eaking (first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oken to (secon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, place, or thing spoken about (thir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600200"/>
          <a:ext cx="6934320" cy="495000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aul drove up, everyone pil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storm, the house lo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t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en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to sleep, 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itcases packed, the Joneses left fore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d that someone or something performs an action to, for, or up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oints back to a noun or pronoun earlier in the sent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ssential to meaning of sente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“intensifies” by adding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n-essential. Can be omitted and still makes s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8108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5:08:42Z</dcterms:created>
  <dc:creator>ndadmin</dc:creator>
  <dc:description/>
  <dc:language>en-US</dc:language>
  <cp:lastModifiedBy>sitter</cp:lastModifiedBy>
  <cp:lastPrinted>2008-10-28T17:38:10Z</cp:lastPrinted>
  <dcterms:modified xsi:type="dcterms:W3CDTF">2013-09-18T20:08:51Z</dcterms:modified>
  <cp:revision>10</cp:revision>
  <dc:subject/>
  <dc:title>Pronouns  </dc:title>
</cp:coreProperties>
</file>