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437-333E-499E-9293-ABD76104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350-D1A7-437F-9CE3-CA7A2462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A8B-5DD7-45C7-AA35-B76A3860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1B5-2F57-4C31-9870-4495B089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FF1-9EF6-48FB-94A1-ABDE1F11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641-8CC7-4B42-8AF7-68EA0B96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379-9BD9-498C-BE29-AE2DB090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5D0-4A50-4FFD-A2EA-BC32476D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AA3-7C2E-4089-A4AC-DBEA8BB6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C25-4352-40D4-B0E5-C321B2CD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075-3C78-406E-A710-462FBCB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14B-C7CB-49B9-8290-AE118403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0359E-CD57-4D57-966A-A712BBACC30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20C03-E5D3-4F50-943B-631A04A754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noun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 to L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Exampl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Joy helped herself to some turkey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ally and John poured themselves the mil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The boy could smell himself from a mile away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The mayor herself attended the carni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Frank fixed the refrigerator himsel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I graded the papers mysel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Demonstrat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Demonstr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directs attention to specific  people, places, or th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may come before or after their anteced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i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s the person we want to hi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s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are the books we will rea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3505320"/>
          <a:ext cx="6096240" cy="914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s, th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se, th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lative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l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begins a subordinate clause and connects it to another idea in the sent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 ate the cupcak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at was on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James is the studen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o was late toda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e visited Grandmother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ose house is in N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5120" y="2879640"/>
          <a:ext cx="4876560" cy="79236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Relative Pronou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at      which     who      whom     wh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terrogat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nterrog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is used to begin a ques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 interrogative pronoun may or may not have a specific anteced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EX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a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do you mea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EX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ich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of the kids dressed up as a ghos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3880" y="2509920"/>
          <a:ext cx="6096240" cy="79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Interrogative Pronou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what      which     who     whom      wh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definite Pronou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fers to a person, place, or thing that may or may not be specifically nam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lthough indefinite pronouns do not require specific antecedents, they often have th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 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evera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have visited Williamsbur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tud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prepared a re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definit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417680"/>
          <a:ext cx="8001000" cy="4336920"/>
        </p:xfrm>
        <a:graphic>
          <a:graphicData uri="http://schemas.openxmlformats.org/drawingml/2006/table">
            <a:tbl>
              <a:tblPr/>
              <a:tblGrid>
                <a:gridCol w="3186000"/>
                <a:gridCol w="2148120"/>
                <a:gridCol w="26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8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ther, anybody, anyone, anything, each, either, everybody, everyone, everything, little, much, neither, nobody, no one, nothing, one, other, somebody, someone, some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pronouns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e wouldn’t say, “Michael said Michael lost Michael’s watch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her, one should say, “Michael said he lost his watch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nouns are words that stand for nouns or for words that take the place of nou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tecedent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re nouns (or words that take the place of nouns) for which the pronouns st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tecedents do not always appear before their pronouns; sometimes, the antecedent follows its pronou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Noun firs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Sabrin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unpack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comput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and turn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Going to classe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might keep you busy, 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is necessar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ronoun firs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ft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graduated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Brand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got the job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always dreamed of in Florid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 am sure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did her homework;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Sall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s usually very studio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fer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 speaking (first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 spoken to (second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, place, or thing spoken about (third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600200"/>
          <a:ext cx="6934320" cy="495000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I, me, my, m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we, us, our, 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e, him, his, she, her, hers, it, 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y, them, their, thei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Paul drove up, everyone piled in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i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ring the storm, the house lo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t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tenn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you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ing to sleep, T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hei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itcases packed, the Joneses left forev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: ends in –self or –selves and indicated that someone or something performs an action to, for, or upon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oints back to a noun or pronoun earlier in the senten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ssential to meaning of sente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: ends in –self or –selves and “intensifies” by adding emphasis to a noun or pronoun in the same sent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n-essential. Can be omitted and still makes sen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981080"/>
          <a:ext cx="8229600" cy="1828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imself, herself, it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m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15:08:42Z</dcterms:created>
  <dc:creator>ndadmin</dc:creator>
  <dc:description/>
  <dc:language>en-US</dc:language>
  <cp:lastModifiedBy>sitter</cp:lastModifiedBy>
  <cp:lastPrinted>2008-10-28T17:38:10Z</cp:lastPrinted>
  <dcterms:modified xsi:type="dcterms:W3CDTF">2013-09-18T20:08:51Z</dcterms:modified>
  <cp:revision>10</cp:revision>
  <dc:subject/>
  <dc:title>Pronouns  </dc:title>
</cp:coreProperties>
</file>