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03C1-8009-412A-940D-99A5CE5B4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560E-AF20-49E0-A0E9-910F71AB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BD04-D626-4B4B-81AB-BFC48B0FC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0AB5-490C-4DDD-A1C9-89ADA18B3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3B75-B772-41CC-8922-4AF90873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BBC1-22C0-4644-A4EC-BE5F4C7A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DD9B-4421-4542-A22E-B00056A9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6E66-A38D-4FDF-A821-E272EA8D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EEC3-051C-4A6A-9E6C-27466F35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19B0-A882-4D2A-9A28-59C98B10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E7C1-EC9D-43AD-824D-28EADE19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FDAF-3A97-4CDC-B86F-AE0532A7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5987C2-3272-453B-8556-90987846867A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C116BC-FA66-48BD-823C-CAB2F69C9BC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onouns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ro to Li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Reflexive and Intensive Examples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Reflexiv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Joy helped herself to some turkey.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Sally and John poured themselves the milk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The boy could smell himself from a mile away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Intensiv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The mayor herself attended the carniv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Frank fixed the refrigerator himself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I graded the papers myself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Demonstrative Pro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Demonstrativ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: directs attention to specific  people, places, or thing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may come before or after their antecede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This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is the person we want to hir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These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are the books we will read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523880" y="3505320"/>
          <a:ext cx="6096240" cy="9144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Garamond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Garamond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this, th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these, tho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RelativePro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Relativ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: begins a subordinate clause and connects it to another idea in the sente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I ate the cupcak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that was on the tab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James is the studen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who was late toda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We visited Grandmother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whose house is in N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905120" y="2879640"/>
          <a:ext cx="4876560" cy="792360"/>
        </p:xfrm>
        <a:graphic>
          <a:graphicData uri="http://schemas.openxmlformats.org/drawingml/2006/table">
            <a:tbl>
              <a:tblPr/>
              <a:tblGrid>
                <a:gridCol w="4876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Garamond"/>
                        </a:rPr>
                        <a:t>Relative Pronou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that      which     who      whom     who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Interrogative Pro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Interrogativ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: is used to begin a ques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an interrogative pronoun may or may not have a specific anteced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EX: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What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do you mean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EX: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Which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of the kids dressed up as a ghos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523880" y="2509920"/>
          <a:ext cx="6096240" cy="7920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Garamond"/>
                        </a:rPr>
                        <a:t>Interrogative Pronou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what      which     who     whom      who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Indefinite Pronou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refers to a person, place, or thing that may or may not be specifically nam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although indefinite pronouns do not require specific antecedents, they often have the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no specific: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Several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 have visited Williamsburg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specific: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On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 of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  <a:ea typeface="Garamond"/>
              </a:rPr>
              <a:t>student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 prepared a repor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definite Pro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85800" y="1417680"/>
          <a:ext cx="8001000" cy="4336920"/>
        </p:xfrm>
        <a:graphic>
          <a:graphicData uri="http://schemas.openxmlformats.org/drawingml/2006/table">
            <a:tbl>
              <a:tblPr/>
              <a:tblGrid>
                <a:gridCol w="3186000"/>
                <a:gridCol w="2148120"/>
                <a:gridCol w="2666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ngular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ot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387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ther, anybody, anyone, anything, each, either, everybody, everyone, everything, little, much, neither, nobody, no one, nothing, one, other, somebody, someone, someth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t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ver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y pronouns?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ne wouldn’t say, “Michael said Michael lost Michael’s watch.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ther, one should say, “Michael said he lost his watch.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ronouns are words that stand for nouns or for words that take the place of nou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Pro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Antecedents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are nouns (or words that take the place of nouns) for which the pronouns stan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Antecedents do not always appear before their pronouns; sometimes, the antecedent follows its pronou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Noun first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Sabrin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 unpack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  <a:ea typeface="Garamond"/>
              </a:rPr>
              <a:t>he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compute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 and turn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  <a:ea typeface="Garamond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 on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Going to classes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might keep you busy, bu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  <a:ea typeface="Garamond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 is necessar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Pronoun first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Aft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  <a:ea typeface="Garamond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 graduated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Brand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 got the job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  <a:ea typeface="Garamond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 always dreamed of in Florida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I am sure tha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  <a:ea typeface="Garamond"/>
              </a:rPr>
              <a:t>sh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 did her homework;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Sally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is usually very studiou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Personal Pro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refer to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the person speaking (first person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the person spoken to (second person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the person, place, or thing spoken about (third person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Personal Pro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066680" y="1600200"/>
          <a:ext cx="6934320" cy="4950000"/>
        </p:xfrm>
        <a:graphic>
          <a:graphicData uri="http://schemas.openxmlformats.org/drawingml/2006/table">
            <a:tbl>
              <a:tblPr/>
              <a:tblGrid>
                <a:gridCol w="2311560"/>
                <a:gridCol w="2311200"/>
                <a:gridCol w="23115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Garamond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Garamond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8cadae"/>
                    </a:solidFill>
                  </a:tcPr>
                </a:tc>
              </a:tr>
              <a:tr h="124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First Pers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I, me, my, m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we, us, our, ou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</a:tr>
              <a:tr h="124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Second Pers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you, your, you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you, your, you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Third Pers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he, him, his, she, her, hers, it, i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they, them, their, thei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Paul drove up, everyone piled in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his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uring the storm, the house los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its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tenn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y ar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you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oing to sleep, Tom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ith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their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itcases packed, the Joneses left foreve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Reflexive and Intensive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Reflexive: ends in –self or –selves and indicated that someone or something performs an action to, for, or upon itself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points back to a noun or pronoun earlier in the sentenc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Essential to meaning of sentenc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Intensive: ends in –self or –selves and “intensifies” by adding emphasis to a noun or pronoun in the same senten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Non-essential. Can be omitted and still makes sens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Reflexive and Intensive Pro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981080"/>
          <a:ext cx="8229600" cy="18288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Garamond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Garamond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8cadae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First pers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mysel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ourselv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Second pers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yoursel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yourselv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Third pers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himself, herself, itsel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themselv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7T15:08:42Z</dcterms:created>
  <dc:creator>ndadmin</dc:creator>
  <dc:description/>
  <dc:language>en-US</dc:language>
  <cp:lastModifiedBy>sitter</cp:lastModifiedBy>
  <cp:lastPrinted>2008-10-28T17:38:10Z</cp:lastPrinted>
  <dcterms:modified xsi:type="dcterms:W3CDTF">2013-09-18T20:08:51Z</dcterms:modified>
  <cp:revision>10</cp:revision>
  <dc:subject/>
  <dc:title>Pronouns  </dc:title>
</cp:coreProperties>
</file>