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4393-EA47-43CF-A04B-0702D044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A6F-B504-425E-913C-E94A3804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C587-5E4D-4F7E-9DD1-95CFFE45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D779-ACD0-4305-8C47-36089337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542B-FF0B-4859-BE21-6B74FD9A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D73A-EDBE-42AC-984C-7C3B96C3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A982-1439-4722-B9EA-D71CC9EE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099-6553-450A-952A-A43A3543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268-8583-4641-9C14-94DEEB5A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0B6A-7E95-4E74-8AAB-CC059750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2297-C68C-405F-86DA-79DA0E3D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6149-A0FF-424B-A85B-9242B340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DE7B2-7FC0-4871-8081-550FC85DE710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A4187-521D-4B41-9292-6193B2D6CA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Introduction to Literatur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 word that names a person, place, or 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things can be seen and touched as well as those that cannot be seen or touch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things can also be ideas, actions, conditions, and qualitie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Note on Collective nouns: nouns that name groups of people or things (ex: swarm, family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Examples of 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People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Ex- Aunt Beth, John, farmer, gir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Places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Ex- school, France, backyard, count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Things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Ex- mall, peace, boycott, joy, illn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Compound 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 noun that is made up of more than one wor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can be written in several different w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often begin as separate words, but throughout the years become hyphenated, then combin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if in doubt about spelling, check the dictiona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4724280"/>
          <a:ext cx="6096240" cy="1279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Separa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Hyphena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Combin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bubble ba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station wag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daughter-in-l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hand-me-dow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shipwre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handst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Common and Proper 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Common Nou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names any one of a class of people, places or thin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Common Nou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auth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st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scho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Proper Nou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names a specific person, place, or th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always begins with a capital lett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Proper Nou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Ernest Hemingwa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Illino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Peoria Notre Dame High Scho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20:19:06Z</dcterms:created>
  <dc:creator>ndadmin</dc:creator>
  <dc:description/>
  <dc:language>en-US</dc:language>
  <cp:lastModifiedBy>sitter</cp:lastModifiedBy>
  <cp:lastPrinted>2008-10-27T17:27:47Z</cp:lastPrinted>
  <dcterms:modified xsi:type="dcterms:W3CDTF">2012-09-08T02:28:13Z</dcterms:modified>
  <cp:revision>8</cp:revision>
  <dc:subject/>
  <dc:title>Nouns</dc:title>
</cp:coreProperties>
</file>