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C95-3913-45FF-9E59-A2FA53A8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BF3-D6CD-4871-8B5F-242006E1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BCA-DC77-400D-822F-E485A0E3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D37-D4E2-4954-BA11-BEA5D466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232-48DB-442E-A435-A082C9BB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045B-D82A-478A-A60C-E1970C6D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BD6-1FB5-4EAF-B875-98855EBF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E27-0A85-42F6-86CB-1056B826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9D3-B885-4338-80BE-4E1B5321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B67-0644-4296-87D8-C804C4D9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2A1-186B-4A27-8BEB-FA0ABEDC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A10-F761-44EB-AC34-97288545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3D629-DF34-482F-A027-160268EA38F8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3EC12-E545-4C6E-A187-6F745B757C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ntroduction to Literatur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 word that names a person, place, or 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ings can be seen and touched as well as those that cannot be seen or touch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ings can also be ideas, actions, conditions, and qualiti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Note on Collective nouns: nouns that name groups of people or things (ex: swarm, family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Examples of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People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Ex- Aunt Beth, John, farmer, gir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Places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Ex- school, France, backyard, count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ings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Ex- mall, peace, boycott, joy, illn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Compound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 noun that is made up of more than one wor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can be written in several different w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often begin as separate words, but throughout the years become hyphenated, then combin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f in doubt about spelling, check the dictiona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4724280"/>
          <a:ext cx="6096240" cy="1279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Separ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Hyphen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Combin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bubble ba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station wag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daughter-in-l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hand-me-do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shipwre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handst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Common and Proper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Common Nou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names any one of a class of people, places or th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Common Nou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auth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sch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Proper Nou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names a specific person, place, or th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always begins with a capital lett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Proper Nou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Ernest Hemingwa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Illino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Peoria Notre Dame High Schoo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20:19:06Z</dcterms:created>
  <dc:creator>ndadmin</dc:creator>
  <dc:description/>
  <dc:language>en-US</dc:language>
  <cp:lastModifiedBy>sitter</cp:lastModifiedBy>
  <cp:lastPrinted>2008-10-27T17:27:47Z</cp:lastPrinted>
  <dcterms:modified xsi:type="dcterms:W3CDTF">2012-09-08T02:28:13Z</dcterms:modified>
  <cp:revision>8</cp:revision>
  <dc:subject/>
  <dc:title>Nouns</dc:title>
</cp:coreProperties>
</file>