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E5D7-4830-4440-AFA5-27DB53FD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B36D-0083-40CF-B2EC-452E5015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30E0-4B4F-4FD5-B805-FBD4E8C5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F566-858A-4196-97A8-ED9A372E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5781-B199-43DC-A6FC-4FAF6387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D50E-3CB8-4461-9F4E-076AB3C0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ACE-CCD0-496F-9001-9A5C3135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EDDA-09DD-44B6-A93B-6951D390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B85F-C117-494B-A44F-D8ABD618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1A1C-7748-4E2D-96EC-252F5B70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02D5-7133-40F3-B7FE-8C778474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AD1C-54C2-4C71-B191-146C54F2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A2D33-D7BA-444E-B25A-5E6B4B1C85C5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2C62B6-9DB0-4CE5-B495-E8542447F7F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Introduction to Literatur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 word that names a person, place, or 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things can be seen and touched as well as those that cannot be seen or touch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things can also be ideas, actions, conditions, and qualitie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Note on Collective nouns: nouns that name groups of people or things (ex: swarm, family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Examples of 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People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Ex- Aunt Beth, John, farmer, gir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Places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Ex- school, France, backyard, count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Things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Ex- mall, peace, boycott, joy, illn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Compound 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 noun that is made up of more than one wor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can be written in several different wa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often begin as separate words, but throughout the years become hyphenated, then combin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if in doubt about spelling, check the dictiona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4724280"/>
          <a:ext cx="6096240" cy="1279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Separa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Hyphena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Combin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bubble ba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station wag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daughter-in-l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hand-me-dow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shipwre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handst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Common and Proper 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Common Nou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names any one of a class of people, places or thing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Common Nou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auth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st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schoo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Proper Nou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names a specific person, place, or th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always begins with a capital lett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Proper Nou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Ernest Hemingwa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Illino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Peoria Notre Dame High Schoo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7T20:19:06Z</dcterms:created>
  <dc:creator>ndadmin</dc:creator>
  <dc:description/>
  <dc:language>en-US</dc:language>
  <cp:lastModifiedBy>sitter</cp:lastModifiedBy>
  <cp:lastPrinted>2008-10-27T17:27:47Z</cp:lastPrinted>
  <dcterms:modified xsi:type="dcterms:W3CDTF">2012-09-08T02:28:13Z</dcterms:modified>
  <cp:revision>8</cp:revision>
  <dc:subject/>
  <dc:title>Nouns</dc:title>
</cp:coreProperties>
</file>