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F2B-A05E-4E94-955C-EEFDB060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D37-1260-4360-A79F-594980A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779-AA60-4789-8FB3-83701430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D95-7C89-495F-992E-07417F4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389-46D2-4FA5-A305-0A774EF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9C5-9B67-43AA-ACEA-53577FE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8BF-6CEC-421A-8ACB-5E1F94D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416-7A32-49D1-B13A-0C0094CD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3AD-DCD9-4DF0-AF6C-37874CBD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344-4170-4408-92A1-D39213BA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321-46C2-4D9B-A1AE-EDC1843D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911-7808-40B2-95F6-6EAEF43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CE984-3079-4613-A65B-88103D0CD63C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942F9-16AE-44FA-AECE-ED7FC5E4D0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roduction to Literatu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word that 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be seen and touched as well as those that cannot be seen or touch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also be ideas, actions, conditions, and qualiti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te on Collective nouns: nouns that name groups of people or things (ex: swarm, famil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 of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opl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Aunt Beth, John, farmer, gir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lace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school, France, backyard,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mall, peace, boycott, joy, il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noun that is made up of more tha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an be written in several different w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ten begin as separate words, but throughout the years become hyphenated, then comb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f in doubt about spelling, check the diction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4724280"/>
          <a:ext cx="6096240" cy="1279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epar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Hyphen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bubble b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tation wag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daughter-in-l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-me-d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hipwre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st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ny one of a class of people, places or th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uth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 specific person, place, or t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lways begins with a capital let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llino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eoria Notre Dame High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0:19:06Z</dcterms:created>
  <dc:creator>ndadmin</dc:creator>
  <dc:description/>
  <dc:language>en-US</dc:language>
  <cp:lastModifiedBy>sitter</cp:lastModifiedBy>
  <cp:lastPrinted>2008-10-27T17:27:47Z</cp:lastPrinted>
  <dcterms:modified xsi:type="dcterms:W3CDTF">2012-09-08T02:28:13Z</dcterms:modified>
  <cp:revision>8</cp:revision>
  <dc:subject/>
  <dc:title>Nouns</dc:title>
</cp:coreProperties>
</file>