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A16-0859-4AEC-8F9F-40128ADA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518-B440-456E-BB7E-17EF409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74F-05B8-428C-8D16-D8765232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E83-9648-4B98-8297-0760D36B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E9C2-BD01-42BE-98B6-2687A4D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2949-55F9-46E8-B05A-F63531A5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FD78-7184-43E8-AE33-4B3F759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E990-2E39-4D0A-9198-A7E307C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0087-A052-4C65-8F5E-334978D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137C-F868-4113-A9FA-F32DF3EA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F864-8C1A-4AFE-8E04-5ABE1DC9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DBD-11E7-414B-93A3-06A96C32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F50-FB81-42BE-B6E3-2DBA290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1536-F01D-4F0E-9F95-2E222AE6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BF2-F095-425F-8B57-EEA0B0BC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DB0-FD6C-4D14-AA95-DF7FCD91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96A6-9AF6-4A4C-8A8C-2A390E8F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45F-0712-4428-BE0E-A8827B9F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C5F-0A95-4F45-AEE8-F55FCC60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E5D-40B9-4012-A90C-C658D2BA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18C-4E75-40EF-B51E-780FA821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154-4275-4050-A095-3B83B6F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B4F-FF8F-4070-81EE-87748DD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FEC-13F9-456D-B802-61E8AA5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F26E9-8079-4DED-A01A-37CA88F0123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FDE0B-9967-4937-B3BE-1DC0CD64218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1D14B-91A2-4549-8F68-F24D09BFAD0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7EF18-1DF2-471F-B841-6D7FCBF7446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  <a:ea typeface="ＭＳ Ｐゴシック"/>
              </a:rPr>
              <a:t>Intro to Literatur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is a word that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dverbs can add meaning to verbs in many different way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swers the ques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n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 what wa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re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e fell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elow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n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package arrived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oday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 what way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 ran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ppi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 the str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rd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d my homewor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jectiv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 adjective answers only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When an adverb modifies an adjective, it usually comes directly before the ad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I was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la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re you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ad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answers just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generally comes directly before the adverb it modif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She mov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quick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We climb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 or Adverb?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ome words can be either adverbs or adjectives, depending on how they are us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Remember: an adverb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jective modifies a noun or pronou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verb: I awoke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early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jective: I had an early clas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/adverb 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entle hands (adj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right paint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curly hair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friendly neighbors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handle gen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ainted brigh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o NOT think that all words that end in –ly are adverbs – some adjectives are formed by adding –ly to a nou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2:22:58Z</dcterms:created>
  <dc:creator>ndadmin</dc:creator>
  <dc:description/>
  <dc:language>en-US</dc:language>
  <cp:lastModifiedBy>sitter</cp:lastModifiedBy>
  <dcterms:modified xsi:type="dcterms:W3CDTF">2013-09-24T14:32:45Z</dcterms:modified>
  <cp:revision>6</cp:revision>
  <dc:subject/>
  <dc:title>Adverbs</dc:title>
</cp:coreProperties>
</file>