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0A0-CD66-4C89-B1C2-3821A112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B96-80B3-41B3-B8A0-733E433F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891-D603-4690-8295-4C9A7F41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240-D636-42A5-9BD7-B43BD223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4B95-2F41-4FBB-88F3-7A721564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748-91CB-4463-8A89-8B4AD05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8634-D177-4007-8C0C-3C9AA926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B897-3DFD-4F8F-BBCF-C8AE1B8E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87D-B835-43B6-BF08-3434C55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D0F0-1DD8-4369-885D-741C4F5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ADDF-F96E-4C24-9509-56F4B5B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CFB-2C09-4498-B4F6-B971D8C6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0C2-FE80-42C3-976A-EF34E8D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3D5-0483-4EEF-B45B-9BE3114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6AD8-C758-4C04-B505-C0886BF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6B59-5A17-468B-BB2F-0072D638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1834-CC43-4FFC-8AB7-15F55973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127-3539-4F53-9AEA-21F8D8F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006-1B28-4803-A7B8-A34D0CF4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B96-1DA5-41FF-83CF-C05BEDA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EA1-B490-462C-8A2B-5F55BCFF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EED-2251-41D5-AF9D-9F7C1D4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230-9A2A-43FF-B813-100B311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EA1-00E3-4118-864D-F3B8D501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00B18-8C64-461F-931A-92C0A9BD0F8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E7991-BE62-4559-9057-7AEE6072C8C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6F8AC-2CE8-437E-9524-8B05845A68D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EE111-A27B-43EC-BCEE-42027E4BCC4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  <a:ea typeface="ＭＳ Ｐゴシック"/>
              </a:rPr>
              <a:t>Intro to Literatur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is a word that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dverbs can add meaning to verbs in many different way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swers the ques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re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n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 what wa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re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e fell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elow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n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package arrived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oday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 what way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e ran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ppi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wn the str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rd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d my homewor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jectiv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 adjective answers only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When an adverb modifies an adjective, it usually comes directly before the ad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I was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lad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re you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ad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answers just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generally comes directly before the adverb it modif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She mov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quickl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We climb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 or Adverb?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some words can be either adverbs or adjectives, depending on how they are us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Remember: an adverb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jective modifies a noun or pronou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verb: I awoke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early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jective: I had an early clas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/adverb 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gentle hands (adj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bright paint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curly hair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friendly neighbors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handle gen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painted brigh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Do NOT think that all words that end in –ly are adverbs – some adjectives are formed by adding –ly to a nou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2:22:58Z</dcterms:created>
  <dc:creator>ndadmin</dc:creator>
  <dc:description/>
  <dc:language>en-US</dc:language>
  <cp:lastModifiedBy>sitter</cp:lastModifiedBy>
  <dcterms:modified xsi:type="dcterms:W3CDTF">2013-09-24T14:32:45Z</dcterms:modified>
  <cp:revision>6</cp:revision>
  <dc:subject/>
  <dc:title>Adverbs</dc:title>
</cp:coreProperties>
</file>