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42C-FA50-4A61-B2E2-6F1F1C28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55E-ECCA-4EBA-8AA7-EB71259F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CF0-DEB5-47AD-A05A-971040F6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100-8A8C-4B19-AB9A-923D5CB2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FAF7-1F7C-4E3E-8BE2-EA4BC9EF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5A14-FE82-4BFD-A88E-6FF57AA1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A8C3-CFC6-4E42-9094-D65F9C05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C274-CD43-425C-AB75-4B22F0B1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FF38-EBD9-43C8-A1CF-6A60A7CC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6D63-B0BB-45FB-A469-89A47D32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A969-FF66-487E-804D-12000773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923-7C2B-423A-8BD7-F7BEC58D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CAF0-F708-4787-AD61-F452D54D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DB6C-CECC-4895-AA15-E69A162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1687-39A2-4168-A478-1AF91344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7161-8338-49C8-91E6-6F780B46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91A0-7519-412B-BC5E-D7BA3E69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241-7BA6-4185-9316-768E7EE9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CA7-A1AB-430B-BF06-9B20AAFE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E6A-F278-4218-BA34-3717851E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863-6C61-4326-B9A3-5BD52ABF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A55-B7DA-4F8E-A786-AFF2A8E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1A8-9E7E-417C-8A1F-644CDE75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10A-45E7-43CC-8FB3-8AAACA37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22876-BFD3-4A37-A6F1-B8DD2F4503D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67D0A-89D8-470A-A8B0-F3951FE00AC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90C1B-6A91-47D3-B0A2-C7D3066927F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CFA43-B02B-4F1D-9548-72C9948B4C9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  <a:ea typeface="ＭＳ Ｐゴシック"/>
              </a:rPr>
              <a:t>Intro to Literatur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is a word that modifies a verb, an adjective, or another adver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dverbs can add meaning to verbs in many different way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swers the questio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ere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When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n what way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o what extent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Examp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ere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he fell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below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When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package arrived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today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 what way?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e ran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happily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wn the stree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343080" indent="-34308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To what extent?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3" marL="800280" indent="-34308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hardly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leted my homework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 modifying Adjective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 adjective answers only one question: To what extent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When an adverb modifies an adjective, it usually comes directly before the adjectiv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I was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very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lad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re you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almost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ready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verbs modifying Adver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other adverb answers just one question: To what extent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verb modifying another adverb generally comes directly before the adverb it modif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She moved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very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quickl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We climbed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almost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ver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jective or Adverb?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some words can be either adverbs or adjectives, depending on how they are us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Remember: an adverb modifies a verb, an adjective, or another adverb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an adjective modifies a noun or pronou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dverb: I awoke </a:t>
            </a: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early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x: Adjective: I had an early clas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  <a:ea typeface="ＭＳ Ｐゴシック"/>
              </a:rPr>
              <a:t>adjective/adverb examp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gentle hands (adj)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bright paint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curly hair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friendly neighbors (adj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50920" y="1599840"/>
            <a:ext cx="384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handle gently (adv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painted brightly (adv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5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ＭＳ Ｐゴシック"/>
              </a:rPr>
              <a:t>Do NOT think that all words that end in –ly are adverbs – some adjectives are formed by adding –ly to a noun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2:22:58Z</dcterms:created>
  <dc:creator>ndadmin</dc:creator>
  <dc:description/>
  <dc:language>en-US</dc:language>
  <cp:lastModifiedBy>sitter</cp:lastModifiedBy>
  <dcterms:modified xsi:type="dcterms:W3CDTF">2013-09-24T14:32:45Z</dcterms:modified>
  <cp:revision>6</cp:revision>
  <dc:subject/>
  <dc:title>Adverbs</dc:title>
</cp:coreProperties>
</file>