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43D-F0AA-4686-A4B0-65BD2442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60B-6086-4AEB-BDDB-E122241D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AEA-B7E5-4609-A546-FFBD7AC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1C4-99F9-4E2A-ACDD-F6E432E4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FB60-F28C-4DCA-BCD2-F2A97498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DB4-D575-41ED-A9B6-BF1CA8EC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25E6-1B84-405D-A345-80CA9473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D160-9065-467B-A386-80E6BD16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68D9-067F-465F-B46F-66E2A77C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97EC-BE02-41AC-A015-29EA0D1D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7C41-D4FB-4CFA-B4CE-6CC8AC7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51B-457D-4149-B898-7F5DAAA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27B7-4EF3-4478-8BB1-B041A7E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F261-2743-4DA8-853C-01A253A4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C041-A0D0-456A-912B-6AE2AB59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648A-720A-4327-BA42-387A2E5D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789F-03AA-42E2-B457-C91D7E5C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4B3-E58E-4462-BD55-40F8D99B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328-4437-4D4E-A3E3-C6E25EAB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812-F34F-41F0-8940-7246C01B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998-D6A2-4B6E-9FD0-A37F2838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733-6D35-4331-8C67-D9B1E4FA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FF8-C6B5-4B97-8AE0-E7CF9D85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BBD-9474-4A27-AFA7-B9AE15D6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4FEA7-4EE2-491F-8965-00E1FD65112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C859B-8D59-48D4-A070-CD663E8A6CC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869C6-4516-460F-9195-17E635E1F28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87D9C-4760-4599-8C1E-C4F12469790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  <a:ea typeface="ＭＳ Ｐゴシック"/>
              </a:rPr>
              <a:t>Intro to Literatur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is a word that modifies a verb, an adjective, or another adver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dverbs can add meaning to verbs in many different way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swers the quest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re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n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 what way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what extent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Examp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ere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e fell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below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en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package arrived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oday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 what way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e ran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appily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wn the stre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o what extent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ardly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d my homewor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 modifying Adjective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 adjective answers only one question: To what extent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When an adverb modifies an adjective, it usually comes directly before the ad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I was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very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lad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re you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almos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ady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 modifying 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other adverb answers just one question: To what extent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other adverb generally comes directly before the adverb it modif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She move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very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quickl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We climbe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almos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ver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jective or Adverb?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some words can be either adverbs or adjectives, depending on how they are us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Remember: an adverb modifies a verb, an adjective, or another adver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jective modifies a noun or pronou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dverb: I awoke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early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djective: I had an early clas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jective/adverb examp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gentle hands (adj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bright paint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curly hair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friendly neighbors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handle gently (adv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painted brightly (adv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Do NOT think that all words that end in –ly are adverbs – some adjectives are formed by adding –ly to a nou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2:22:58Z</dcterms:created>
  <dc:creator>ndadmin</dc:creator>
  <dc:description/>
  <dc:language>en-US</dc:language>
  <cp:lastModifiedBy>sitter</cp:lastModifiedBy>
  <dcterms:modified xsi:type="dcterms:W3CDTF">2013-09-24T14:32:45Z</dcterms:modified>
  <cp:revision>6</cp:revision>
  <dc:subject/>
  <dc:title>Adverbs</dc:title>
</cp:coreProperties>
</file>