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104-2C92-4FEF-BE10-1F79378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CE8-290D-4974-AE82-617522D1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C86-7473-4842-BCEC-C482D5FE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3B2-51FF-409C-A3C6-E5B0F75C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7146-59FA-4DBE-A6AA-650A685E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33B-E52E-40F2-BC0D-71F4B938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2559-FFAF-491D-BF79-6D9ACA4A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0AC6-BF5B-466C-A7FA-B8B5BDAA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68CE-F05E-424A-86CB-28304520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8F8-9552-4CB3-8FD3-96326879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9FB0-BF8D-482E-91AF-EE9FB36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26B-AE11-4693-ABB0-A0DD988D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F984-5809-4B43-B0AF-14C04A4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4231-F61E-434B-8219-38746ED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2B5F-3E36-495A-9BBB-E207C000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05DC-C74B-4FDA-89E8-B96AB9AD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2248-9910-431F-8E82-5ABBDF0A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EBBD-443C-4778-9AB6-3C5A95A9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25E9-5EAD-40F2-9C61-3C81FF04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1343-0204-428D-B76E-F1294C3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DEF4-FF3D-4CAD-81E0-FEC38CC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A757-76BA-4A31-9E93-2312649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62A-6B8F-43C2-9F0B-8874491D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E63E-9371-40FA-ADF0-1B0E459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3102F-0D37-4C96-8A5D-22CCEB5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2689-C635-4781-8FDD-8D676EF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7B96-6CB9-4D8A-B393-483723D3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901A-2036-43CB-AECE-57B9FA80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37A0-57A7-4828-AE55-9E5A349B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0F01-FF38-4B95-9BD2-4B61A9A3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D4A1-8BE9-4A0E-B164-A56F63A7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4817-6718-4073-A401-73992FE5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B344-0F92-4DF6-9E1B-CFD162D1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BE5-279F-45DF-8BE5-9A47A47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DC8B-3406-45E4-97BA-CF6D72C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06C3-FB9F-4160-ADB1-973B438D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2AC6-C25C-4549-B0B6-1297FFBD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31BB-1192-4327-8FBD-335B56D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D224-1CCB-4191-A4E3-BC443796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FEBD-F3D4-413B-BE54-61B9864D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2506-FC87-472C-B7E2-1A44947E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408D-DF7D-446B-9A96-EE93B5E8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0C61-9453-49B2-9DBA-FD98233E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4572-AAA5-425E-AAFF-CDECE14A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67F-F2AA-4430-BDD0-1BB3EB05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D082-CFE6-4CF6-ABE4-EE81B5AD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A227-FCB5-4A94-90CC-2CED6F36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5503-19C7-4578-A49A-EF08E47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22EA-81ED-4F08-B541-141F72A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8AB7-D106-4702-8C1F-DC4C165B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0FCC-B433-472A-BB1B-90EC65F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A2A6-6A48-43CB-BCE9-FBF03F1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EB01-ACE0-463E-BE85-A6A5DEB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B78BE-1DD5-4D08-AD56-41AF162A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DDD7-A692-4B8E-8D21-E8F2E3E4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035-CAD2-4C1B-8B66-957DB92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AFDD-3C0A-49E1-BD3C-5AE5CABF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9E60-1D23-488C-9B6B-A33BBF7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1642B-008B-43E0-9453-9222DD0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B49A4-787D-49C0-88A0-94FE4BD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DD4D7-8CA3-438C-9144-BDC6FFE3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4F19-4E0A-41E5-BB90-A25B3B95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E848-C55C-4CA4-870B-784D13C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2F755-02A3-441F-9522-58353F6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1180-A49B-4834-B010-6E4C285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FF50-498F-44F4-B8DC-3A7B5CB9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F04-3AD7-4312-A59E-C345F20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AF60-721E-4C9C-8430-6F8615A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65210-834F-4D3E-AFD9-C8BE1155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BBDEB-EBD4-494B-B7EA-CE877C62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1150-88E7-4A76-B05F-716002DF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935A-8790-469E-915B-C1ABC957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49E3-7D78-4D0E-A4B2-8AC588F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33DCB-A564-4088-B1CA-7371ED80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438D-BF10-4C3B-BC35-8F450256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9A47-35CA-4539-A258-0AA2D66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D9A8-D9A9-4D5C-A7C4-4633041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073-E7BA-4DF2-8F92-F36CB1B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8E94-79BD-4A45-8C6B-40AD22A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5C44-58B4-4FB1-8282-6A458D3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E5BF-3EB4-47D9-BECD-3B6D5595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3EE16-CA95-43F7-BDF6-30A75E3C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F5F6-66F3-415B-8395-7367C76A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99F6-1E01-45A6-9518-2ABD34A7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4F265-95C9-49BC-9F08-AB1C12C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5CC9-D227-40F2-9917-894A0F5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B5541-D53F-4A21-8289-21BA34F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D39C-BD39-441A-948F-D0C8B28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146-2DA8-4DBB-886B-58A4E3A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EAC9-BCB5-45F9-892D-3AAFCE7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9151-8D95-43EE-866A-E2E1E71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F6FA-3C73-406E-BE7F-7648A613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6CAB-BAD6-4519-BFEB-29E7F53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0E77-3AF0-4E58-9878-74DC8916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EEC6-4086-432B-B09A-1AA45241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18234-0E75-4857-9CEF-D5E4B5C5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28005-4F5E-4109-B6FA-55CE2866E1D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F3830-6498-4A93-B124-9805968783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C6FA8-2B76-4DBE-A90A-775ED69ADE1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4362B-4C02-46A5-B245-905AACA2F0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D1829-0A8A-49F1-ADAD-AC18838123C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E5D9F-15C0-4B18-88EC-19B5067987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ABEDD-CB5A-4FD3-8C7A-343BF2D1FDD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AB6FE-8D44-4F49-8D20-BDCE3ABC97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221C9-DAF3-4D82-852F-FD9C56C94F2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D845D-04CA-4B2C-8063-EA511E3283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82296-2188-4A7C-8680-B940F244CC8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E2C88-0DCC-4B23-A5A9-AE7C20D24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2CCC4-419B-43F5-8A6C-96E653357A9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ECF09-0813-4D94-B092-E27010D0C6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49506-819E-44EF-A1B5-D0155355CBB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26931-7F7F-4F0F-BED9-E5AD91A8E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58996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 to L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6212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51577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and singular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and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4:55:11Z</dcterms:created>
  <dc:creator>ndadmin</dc:creator>
  <dc:description/>
  <dc:language>en-US</dc:language>
  <cp:lastModifiedBy>sitter</cp:lastModifiedBy>
  <dcterms:modified xsi:type="dcterms:W3CDTF">2013-12-03T16:15:41Z</dcterms:modified>
  <cp:revision>16</cp:revision>
  <dc:subject/>
  <dc:title>Agreement </dc:title>
</cp:coreProperties>
</file>