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813-2776-4127-80DF-B4888267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4D2-E80C-4F48-A606-591D45F7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78D-CD92-4250-A0C9-1B3F7CFA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CC5-0F3E-4DD5-8D43-A7F991CB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F6DB-44F2-41E4-9E38-7C6A5D9F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46AA-713F-4E70-B3D2-0059C28A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8FA8-C104-4F2D-97B7-FDC472E6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BA9B-A389-4841-AB6B-780E7463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43E7-C643-46F1-A887-FC03805A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AB56-80EF-4A0D-85D5-705F9E05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E717-A807-43A7-8E9E-A24A4E96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CC5-036E-41D9-84F8-580AA850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6FB2-AB83-4D1F-A92B-7F084EFF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8033-2549-412E-8E3B-A6A5ED2C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E36E-9AFC-4242-BB53-0E163D45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D2CC-1205-40BB-B69E-3E819CD4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883A-A986-469D-856B-412ECB28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F4A0C-C321-4C2F-B15A-C12183E3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9CF5-9B43-41CE-B03A-4C196756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C835-D883-4DBF-916D-8D965761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A418B-C455-41C0-A778-BA23BEBE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4C09-C353-4DBF-A985-D29946AD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EA73-13B0-48F7-AC3F-2E4A1A65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1D5B9-069C-4E9A-9946-62A8A9D7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D10C-216A-4303-AD2B-912D8980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69C35-39BE-4154-8658-28E6AFF1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369BD-F07F-43AA-9502-289CB0F6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4E8E-D35A-4BAF-9850-2C160EA7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A7AD-491E-4F8D-B81B-8D0E8B11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BBF0-A38A-41A3-A6F9-4C996A9F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B72BF-61A2-47C8-9EEC-2908D1F2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8960-D1A8-4FDE-A037-3020EBC6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ED5C5-D71F-4238-84A4-ABBD29F0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EA9-FDAB-4063-9A93-2F057894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D9A4-4453-4A08-AE9A-B24E77F9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7DBC4-0178-4DF4-BE53-97F4DBB7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B2A0C-5E30-457B-A492-A12AD5BF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A48E8-95E8-484F-9282-9C7FF700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1D835-9D9A-404C-A92B-2BE965EA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DC01E-64BA-4156-A08B-57824C4C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37BC6-343C-4A26-9BA8-F54CF16B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3A5D-11DE-4991-BF3B-A1977603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8F49D-01B4-4A18-928C-341BF13A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C9F2-9883-4760-8833-009CEC4B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799-F888-4058-8296-8E8A99D5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35ABE-7FCE-4559-BE69-F157D5C6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FF499-AD1F-4FEC-82B5-7FFD4251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150F4-2243-4CD6-BC1F-349F7AC8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41D44-96E7-4102-AA87-E51D1994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8DB45-1019-46F1-AC8E-9E2D1176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8EAA-F84A-45AE-BEA8-3A28165B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2B392-1ED8-44E4-B556-CC1B9190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7D388-6BC8-468B-9CD1-CF598BD8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57210-0AFC-4280-99BB-543CCDFA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8F49-0581-4605-ADA1-7CE5205C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0F9-C722-451E-A916-146218F6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3720-1BBC-402B-BDB1-19DEC786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7595-70DB-4A94-835D-E865C3C5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309BD-15C7-4FFE-9C3E-D5CA88EE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EBBA3-08D2-4D38-91B2-5FEC0A05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677FD-530D-4C77-A3CD-9C67ACC0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73031-ECEA-4316-BDE6-3721AD9C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270E4-D722-4BF4-9552-F5CE7BDD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B9E0-9B26-493D-8063-41AFE82B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171E8-A5DA-482E-961A-38F497C0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D072D-3665-4B7C-9D0D-590E9EEF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944-5AFC-457A-89C9-91D86C3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3CEEC-2F06-4867-BF66-E39E20E8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CFC0F-8C57-4548-8790-D8DA6597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E40F2-616E-457A-9CDA-663237A3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C2C13-9318-4F7A-B633-13D70327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96C9-E36B-4500-8942-CE3BB91F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352E1-CE6F-4471-B959-4EC40A53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71C34-E7BB-4F99-AE4D-1B8D9AC3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ED157-6B63-4218-9C1F-4751EEB7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74BE4-72EA-4471-90A6-F97BEF84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5358B-2B68-4643-A553-EE6C91EE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BB0-AEAF-47D1-85FC-976B27D7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B7413-3A69-4FDD-A132-A796358B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B681E-294B-4CC0-A5A6-A1504524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98257-177F-4C54-935E-99DBCA17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0037F-FF6B-4BE5-A6FE-9E66BD4E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34C05-3BDE-4776-A8AC-63516F35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A39D5-3604-407B-B8FE-B92DDC6D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8F0FD-FC2A-455B-A9DD-F153D21E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57B45-61B1-42E9-90B4-06BA550E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56B7E-B058-4DCA-A2BE-AFEACBE2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70197-E7E7-48C6-824D-37A8BCBA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34C-B9B7-4788-91C1-11666689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A6500-CCDB-4977-9A96-0EA83345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F81EE-49D5-439F-A8FA-8892A173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D3AF7-D186-48B6-AC58-7E5D7F4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2DACE-9C99-4564-B1E8-21FC65CF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67F61-EE4B-479A-899B-45715991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F1152-5458-4EB9-BF3B-6AFD57EC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2A60E-93C9-48D1-A018-155C5178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B721D-FA88-4BEE-A7A6-7C43B01CF81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F9175-FEBF-4592-BDF8-081A6CAE14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F7037-5346-422B-B834-889863FD38E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D744E-C7DC-45EA-81CF-6891915073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44C26-5388-4986-B9FC-472443E16FD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FECCF-409E-49FF-9165-5C13F260A2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6E76F-85F6-4F97-8420-7EFB08E048B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167AE-2243-49CD-88AB-B166E4C05A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7BB78-B034-47CE-BE88-4D58BEB9BFF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88B1D-9A4E-4866-8F42-30DEE9755D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3BCE9-C9B0-48D6-98DA-8B00CC4DA15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FBCD5-B4CE-41EE-B0A2-44547088D1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F5055-A092-4C47-888A-43425F139DB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DDDBA-791F-448E-84E8-E24A1648DB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F4B8A-A58E-46C5-8901-C823B6DE108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9B50B-2B61-4515-AB0B-F20EAA119F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58996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ntro to L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2562120" y="151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5157720"/>
          </a:xfrm>
          <a:prstGeom prst="rect">
            <a:avLst/>
          </a:prstGeom>
          <a:ln w="0">
            <a:noFill/>
          </a:ln>
        </p:spPr>
      </p:pic>
      <p:pic>
        <p:nvPicPr>
          <p:cNvPr id="39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and singular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and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4:55:11Z</dcterms:created>
  <dc:creator>ndadmin</dc:creator>
  <dc:description/>
  <dc:language>en-US</dc:language>
  <cp:lastModifiedBy>sitter</cp:lastModifiedBy>
  <dcterms:modified xsi:type="dcterms:W3CDTF">2013-12-03T16:15:41Z</dcterms:modified>
  <cp:revision>16</cp:revision>
  <dc:subject/>
  <dc:title>Agreement </dc:title>
</cp:coreProperties>
</file>