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2EC-684E-430F-B28E-B9E87832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05E-419E-42EB-B559-E97F94ED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A4A-6873-4C6F-A82C-7098195E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F02-EB61-4DED-B459-C70B25D6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5524-62ED-4D85-B0AF-CA3BD544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D99B-6BEE-469C-9B6D-ADB8731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630E-C992-4138-BA6E-E885EEE1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7896-DD30-4354-9F9B-61CAB56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5D4F-4D7E-4CF3-9693-170CCB01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5A43-5E49-4032-AB54-7F3FF165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564B-5966-4438-B0B0-4767679C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EE0-4C32-4A3A-995F-7D4EA55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9E51-1D08-4A32-AB97-2B13E26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842-5023-406D-81A7-F2EBDA39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12BC-3B8F-4679-9568-77A1582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8250-244A-43F8-8FDF-777E5432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014-8E56-4333-93DA-F2565621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1AAF-3145-41E2-9AAB-E5A0E9E4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2445-61C3-4B46-A3C2-A8CA2CF5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B19A-F206-4D8C-B138-23993039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86004-C456-4D3E-B8F9-FDA0AA92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8D9F-858D-4FEB-B875-C8B8264A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5FB-B9B9-4F4B-B619-E0CF5139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A413-7057-4665-9AD9-73A18F9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6B36-FB3A-49CB-A42F-BE18134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2002-81EF-47D7-B84D-673492D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8476-DBEA-4E7D-BDF3-98F2F0E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F92A-0900-4F02-ACFC-D9154E5C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202A-28F0-4B65-A953-06A5B7EF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6EE2-76AD-42B3-AA7A-BFAE5B23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E2EB-AFFF-4C05-8B99-E9707518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F1F6-046C-4EFB-89C5-237791F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7139-6B02-4209-A9E7-8E187F27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712-0847-48BE-9F43-AF608071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E829-3901-4E1F-9BF3-64CF7F85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7FD9-6B8D-485C-A19C-A1F84DF9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1027-D3BC-428E-BC0A-CD2CC65E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D655-90E9-4833-9BD5-C80736B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D963-5E3E-4DA6-ACD8-2CF4BA0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D762-9ABC-4C24-90F1-6995EC8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7A19-71F8-47A1-876A-F1DA858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91C4-23EA-41EE-87BA-DB487680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E0F8F-D530-4AB1-9064-5FE67391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8626-7679-4462-A5C1-1C8A4EF0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FC9-ABC9-4638-95B9-1DC843EE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9E2F-1DCD-47AA-BA6B-D7E5EBD9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E7B93-4FC0-4731-AA02-C2DBC49D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1364-C1AC-48DF-9474-653F8F7B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7FE16-63B0-4BB4-926C-011C9AF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D787B-59B9-40F4-9BC5-6E1F8030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4B2B-0D8D-4365-B3FF-DF186DD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DB923-2299-4567-B7A5-A4BE545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223C-0074-4C5A-B968-09988EB1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0168-74E5-4467-BB37-25F2649D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EB2E-0BC1-4643-8682-D6589710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B48-11FE-422C-BB06-D4802DC5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AFD7-8279-465B-9F5F-FA8EC4D3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7B16-D171-4B96-9037-0BCA30DA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939D-F675-4A90-9E16-C12BD2FB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E6331-4FFF-43B8-B83F-A951F207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7B4B-46F0-4D86-85CD-8CB6C27C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513C-4B12-435F-B881-B2F2459D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580F3-3D08-46D6-AFC6-64C1A11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8879-F785-4FB0-A469-0154805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3DAF-034D-42D4-B089-1AD38222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0C77-EFEC-4BB1-8FE3-6E33752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498-24B5-4DE0-8C1B-881CA9C4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1262-3D5E-4155-85F5-884031A6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9339-D123-4DAB-9ABE-A544E3BF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3F414-B4F1-41F5-9D8A-AFAD1824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843C0-2D4A-4A0A-BFF5-FC9F728F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116AD-C0C1-46D0-963C-47035F5F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BE91-1A90-4D58-872D-69449C0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4EA6-81FF-4AE4-BD3B-1286729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E712-BD75-46E0-9727-BE64AC3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00D1-5FD8-4427-A9F2-F1E11339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1173-1A87-48F6-884D-83D744C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7D1-1781-4B7E-A66F-24105771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EEC8-1316-45C5-8512-2FD50D7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8658E-656D-4BA4-A7D8-BE78975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A24B-F2DD-4A91-8BC8-285AAB6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C7D5-AABC-49EC-82AA-2A46C0A3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7484-9729-4FB2-9589-680670F2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0BD2-859E-447A-89CA-61E91BC6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AA584-76CD-4963-BE9E-62379FCB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1EBBD-6AC4-4EE5-9CAF-9DED5864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B3E6C-BD72-4CF9-8D52-4457F04C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5D84F-C760-4EEB-BE08-620E200A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D5B-F354-441A-81A7-CE504E4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18AA1-8C1F-4A3A-8EE9-A5A5153A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DE242-0C1B-41F2-A441-D57BFC3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726E9-F1ED-4B56-A02F-7F0BD29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130DA-FE49-48B4-9321-D7CEC060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216C-7052-444C-A23B-2511C3F8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ABD20-4832-48A8-9CC0-17F68E6A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3B95-4CA4-44E8-9BF9-996677CA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6A219-2A68-4D7D-8CDB-41AFD7792FF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6624A-17F5-43C9-8071-5FEAD38A06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38276-4ED4-4637-9103-E19199E2259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C32E7-67A7-47CF-A966-C5E7156D52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D9ECC-A648-41BE-88EC-45EF51634F3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19B79-06C8-4AD4-AC7E-A2AC1503E1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975CB-AD74-4828-A9EE-C8C3F5520AD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CFEA8-27DD-4769-AA02-6CA15B79BA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C4834-D1A5-4EED-A5BB-15ADC57F9A1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0F8E7-A174-4B7C-9E10-2A5720174A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3127D-0054-412A-84D7-2D56C5FF6FE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21202-CF1B-4C03-A9AA-F27960D805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EC8E3-EC75-4330-AED3-F34AF4B9C85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3794C-72B6-4AEE-8D8B-2639577516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C6FB5-786E-4BD0-9064-874AD14C261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062B9-E351-4904-B49D-8513F1A8F0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58996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 to L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6212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51577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and singular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and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4:55:11Z</dcterms:created>
  <dc:creator>ndadmin</dc:creator>
  <dc:description/>
  <dc:language>en-US</dc:language>
  <cp:lastModifiedBy>sitter</cp:lastModifiedBy>
  <dcterms:modified xsi:type="dcterms:W3CDTF">2013-12-03T16:15:41Z</dcterms:modified>
  <cp:revision>16</cp:revision>
  <dc:subject/>
  <dc:title>Agreement </dc:title>
</cp:coreProperties>
</file>