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9F2-201B-4FCA-ACD0-2696C259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38D-4201-4DFA-B51C-45049AF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EA1-CB07-49D3-909F-1D98581E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EAB-1D41-4E4E-8C83-2B197121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1652-2AD4-42AF-9534-8B605007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203D-7A6B-458E-A7F6-29574B4C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D0BC-083C-4DF6-9DBD-3C14A6F4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0D1F-0E7E-47D8-B4E3-E3C3B09F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70DC-9390-48A2-92D8-87633CFA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283F-BA3D-45BF-AC34-F265B6C1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A927-3A12-4544-97AA-5812657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641-E71A-4E9E-94EB-F481BA98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8432-9997-4D4A-8A36-345E39BB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1FE5-B4D9-4236-A7A2-C42F2405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5D62-B759-4F30-BAF3-5EAA24A4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D42-3F61-4271-BC64-F406A75D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191F-6B99-463A-BF55-4DC5BCDE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CDBE-F79C-473D-983A-78867601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ADE2-4C5E-40DD-BC6D-9A0DB16C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161D-699D-4B26-B1D0-AF6D198A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CC21-E397-4998-9FCF-E6C9D3F8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7798-8D0F-4957-A734-E36DDB39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CDF-8423-43E3-8E0B-41F98B89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3A9D-8EBB-40E4-83C9-AC863C27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8386-EA4B-44C1-9AC2-6CDDECE0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D31D-2DCF-4859-8704-B787630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F7A4-AF9F-4842-82E0-AEE86FA0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1ECB-B82D-4C2C-8E41-9EB90178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DD91-3388-4E3D-AB1F-CCFE753A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EE715-C4E2-4845-BFEC-F9A61AFF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AE435-A415-4AA8-B7BB-501D085D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32EA3-DC98-4270-BFD4-4472AD06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0C712-D230-477B-A15B-2D0EA5B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24B-A100-4937-9B02-C8E9DE85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CE44-FC2F-40A8-B484-884C4C4E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13938-F1AD-4E03-91BA-A769FD3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3F0B-14DA-4816-9617-B78BD98F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543D1-D5C9-4282-AC1D-77DE73D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3DA8B-E6DC-4905-AE08-BAEDA74F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98CC8-0CD4-415F-85B2-19C87880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925D3-799B-4028-856E-11972654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84E65-97A7-4841-BE87-D005D4B1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70DB2-904D-41D4-A242-D0CD36B1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B69F4-0005-40BA-9C46-D30B9655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8C8-8BED-4EAE-9481-6230531E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A5F5B-ABA4-4FE0-B298-DF85A89C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0DDFE-B341-4C23-A1AF-D0D9C69E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4F533-FF47-440B-8E12-CF99F2CF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D9391-2F96-4C18-A68A-C5C5F68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0428-313E-4013-BA7E-296E437D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49330-F0FF-48BD-B910-8E99018F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AC369-E05D-48D6-BB77-C25ABB6A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2FD46-25AE-4EA2-801F-F9D3085D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3EF09-37FF-40E3-A785-2868F652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97246-3EA2-469C-81ED-504AD0C3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E1B-9BD3-4CA7-9B18-BDC26500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9C07D-55C5-4708-A984-0AD1BD28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4500-A9A3-4151-81A4-885238AF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847F-77D7-430C-9D95-E25AE54A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0D4AC-41CD-49E3-8236-825B89F4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7D8F8-8D8E-4790-A32D-0AFC551B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A2610-5052-44CE-B746-68FC68C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4D1E-2629-453A-8C77-1EDF89D6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2A35-FDD7-43CD-ACD2-05E87F71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7003A-0152-4AE9-BF04-59DF1ECF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CD85-D9B0-460A-9F26-9CFC9E35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DC4-B482-4270-8600-F3FAA399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90D0B-F0E1-41B1-86EA-A516C47F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D692-1A3F-450E-8A2B-39094E50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8CAE4-F7D5-4B87-B9EC-C5F5CC75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59325-A053-449D-BCBC-61C6AF67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F5175-5325-48D1-802D-6247ADF1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AA509-9529-4DBC-B4C5-55AF731E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C2B5E-35B1-4B6F-8881-CE18CE0C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70FAD-B5C5-4BEB-8E1D-F841C169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9E19E-71C0-4CA2-935C-BA87CF66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DEF5-BF19-4359-AD60-6C41A21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51F-1E5E-40E8-A0B0-A7CCE5E6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96253-8D1F-48AE-9D8B-FAEB335C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79AB2-611F-4598-86E7-0ED94CB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0A3B7-30E2-4556-B6C4-2F150988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1433-4852-4120-AA4E-CDF94D4F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45360-83A8-4180-B7D2-160CB63F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6C18A-F94D-4DE7-BC97-41C45360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5EB91-7E3B-46AB-862A-AA637978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42E5B-6620-403B-8270-6BC624E4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CA0F-E054-4DAC-A411-61796E8C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08AE0-AEDA-4DFF-A4DD-1283A670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45C-CFB0-423E-BF7B-2C04A42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8061C-50B9-4FEF-A4E2-8B35C89C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4E409-FABE-4EF5-955E-89F3B75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30A43-EA02-48D1-A0BD-09B23E4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7A0F9-CC89-4C0C-B523-7D33A81D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071E7-8DBA-48CF-9742-1A6300CD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33D8E-37ED-4B94-9CAB-F7F93EAE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02A61-D107-47FE-91F2-C98CBEA8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B639E-105B-46EA-AFA3-96637E2D96B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8DC64-5787-4696-8B77-D51B8AFFA3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24086-05EF-4D91-9831-DFC56A8FB74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89482-2B61-4286-B028-B9F0A94806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245D7-D5CE-4497-8C7B-62CC6A31B79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1F9D8-2BD7-44BE-A982-6CE72BEEFC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D2338-88BA-4F8F-B270-0F438D5FFE6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5CB22-9C1B-4F5E-8A22-196610F0E0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2E66E-6FF2-42CC-85DE-BD2AECFD0C4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EBFD8-B6F6-48EE-AE9C-0B71B73DF3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C0436-0E2C-4837-A21B-1F056B8F045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E69D8-6C5D-4B56-AAE1-2DEE5C3298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B7AF8-2E66-4309-9A32-84B151B7EFF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896EC-FEB5-4EB7-AC15-51D4C554EE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75F1F-4E1C-4F5D-9FFE-C77E601A64F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A3B5B-6D1E-41D0-ADB4-2D35DDEEF2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58996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ntro to L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256212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51577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and singular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and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4:55:11Z</dcterms:created>
  <dc:creator>ndadmin</dc:creator>
  <dc:description/>
  <dc:language>en-US</dc:language>
  <cp:lastModifiedBy>sitter</cp:lastModifiedBy>
  <dcterms:modified xsi:type="dcterms:W3CDTF">2013-12-03T16:15:41Z</dcterms:modified>
  <cp:revision>16</cp:revision>
  <dc:subject/>
  <dc:title>Agreement </dc:title>
</cp:coreProperties>
</file>