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3EF-600B-4DD3-BF78-ABE02877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46B-EF51-408B-ADC2-43A4F2B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D45-0D71-44D6-B9FE-CAB943A5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D4F-B585-4779-953A-3469859F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3E81-DFC2-4424-BBF4-BDB8E20E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BC28-2328-46CC-AB58-4FA6846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258-C2E3-453B-9346-1EEFAFF5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4015-7C17-4407-B585-40C46BFF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5FD2-DEF1-459B-A99F-6BB47D7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68D4-D08A-40B2-8195-99A2B4E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E57C-2AA4-4C49-8F37-C3E4C1F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0DA-BCDF-4ABB-B819-7A66B52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13EF-29BF-4727-A9A1-77F99D1F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0F3-B58C-4BBB-8BB0-4D1B8B3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8770-A32B-43A2-ABD1-138A675E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BFA-1332-44DA-9C2D-FD0E68CE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7E9-CC5E-49C0-8F26-F2D88F5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825A-3979-45AE-9C50-C0B12B25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6BC8-3908-4A76-A845-AF9896F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2661-A4CF-46DC-AEE7-8772A63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8EA4-4AD8-461A-BB9A-E8874488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6E3C-F6F4-4266-950B-553F854A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980-9ABD-4E13-B28D-147E7EF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929D-831B-41C7-A803-326D3D26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CEA9-E912-4E83-96CB-76CC342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175F-EC4D-4C53-BC41-E398A48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BB6B-7583-44EA-96E4-C71434A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9E56-5C48-400A-BBA0-72649EF1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8C14-0D38-4786-8D7D-596FC3F7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DDA4-1A11-4F43-AE59-D300F7B8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C34E-36AC-4B2A-BD0A-8366E928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BF71-50F7-4057-AC84-6DCA6B04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66B0-5D7F-43AA-9888-97AB0AC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C1D-14D7-475E-9914-746C940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1131-B420-48FA-97E9-068F932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AA5B-60BB-48EC-BED9-335D75C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01F0-86D0-442D-916F-518D3AF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77F6-60F8-4CC5-866C-DD2513D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0F13-5FE7-4F19-AEE2-EC99971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AAD4-2E6C-4A09-AD66-8652CC1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B44A-CDF8-4AEC-AB91-DFD721E1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F268-3782-4965-820F-2C071C98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B4D2-9FFD-42B9-AD2E-28A3A09F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C3D7-F74A-47B0-AA74-C1AD150B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670-C99E-4624-807A-0C7D725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83B2-01F3-48C6-AE0D-0F414039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D343-1DE2-4FAE-A87D-1F7FB62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16A0E-6F38-4819-9B61-2C9322A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38CE-9E4D-4B8A-927B-4EBC291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20CAE-6454-4456-B456-5B1BC9C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68AD-5AA8-419F-8FEA-2A23E15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B9557-72BE-4839-8ED2-D8E7D0EE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E7CB-9012-4B78-A202-2FB2EB9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0069-1D46-46FF-95F0-3FB1AEE3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6FB4-54F9-443D-ADE0-A349D991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04F-54E9-4275-97D8-D317D2E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DC05-1118-43B1-A235-3D3B3008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80E6-8A3A-4493-BF52-90EDB2F3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50A3-3DAB-4A6D-8255-84672256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AA19-8124-4FC8-A46B-7F66F54F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ED767-900C-4F58-8439-FA3BF8F4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5FE4-3B61-46AF-A87B-2620E060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2C339-A6FD-401C-8DE8-51C38DE7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478B-6795-4F9F-B49A-2511B89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CEDD-0469-46D8-BCFB-489812D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43FF-B4BB-4BA1-8188-4EBBA9E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424-0025-41F6-B3DE-828EC23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0166A-6CD0-4272-9BB9-AA204EE5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322A-1DC9-4CF0-A315-F59ECB00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DC50-2AC9-493A-AD83-88BA5CC2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5A213-DD66-4A1C-82A3-F94146E9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6F06-04B5-47B4-AC87-42A325C5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8A69-A958-4244-9027-1E05236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C7485-C622-47DB-8881-FA0CB3E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34C9-C9DA-42CE-B1AA-C4C0C5A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B1D7-DC56-438B-82C8-ECECC6B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E3B1-B35C-408E-BB54-1BC3946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E2F-3FCE-49A9-94D0-9396500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B5CE-1C32-4E9A-BF01-5C902F0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5D1C-8F53-4A90-8AE3-786A1E5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830A-121F-4F9E-A95E-E7E2EDC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F39A3-F3C7-437F-94E9-F6F03B4A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F574F-5D62-492E-AE1C-331C73BE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68AA6-7A0B-4227-9363-3BC3BA91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5439-B780-44AD-80C3-0561C585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748C-8551-42B4-BD8B-70F7AAA6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2119-D209-4250-A80D-05CBFD24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49E1-ACBB-4935-87C2-0AD87EF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124-04F2-470D-B09E-018F7B3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D3627-0B8C-4556-833A-FAF287A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C0635-C71D-46D3-ACC1-5F3F914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479F-B12A-4CF7-AB5A-29F8DFB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159A3-2C24-4A5A-8675-8D975912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B76E-B1EA-47CF-820E-1506D39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1226-B662-4426-8B1E-1F0D8ACE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0DE9-0943-4A1F-95D8-DF2857F6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4149A-725C-4020-BB3B-C9AD0BED727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695C3-0C03-4DB0-889F-DD84F16B2A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F59B6-009D-4298-8030-DDDC2BC1E7F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94572-8149-4773-B2C3-DB866E5A0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91220-D80C-4544-B6D5-B19E5C3F56D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5C2EF-D7B1-4220-AC2B-F6DB328E63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28C37-7863-4C74-A800-E83693D6DC6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29B18-F2B7-4454-BC4F-83E80D6BDE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BFDE7-6A6F-4971-8D5A-468C50BDE83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2D568-5793-4BAA-B09D-3A37B9570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1B1AA-2252-459C-93C2-46E3AF00A8F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F230-2384-4E1C-ABD3-060305C525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60BDE-0157-4ECC-BBE1-65FCB5D60CD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57350-C5C8-47FC-9F31-3AFA81E984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A890F-44D3-4EC6-8A44-5608578435D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1473B-EF22-4388-9EC2-2EF28EE4D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58996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 to L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6212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51577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and singular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and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4:55:11Z</dcterms:created>
  <dc:creator>ndadmin</dc:creator>
  <dc:description/>
  <dc:language>en-US</dc:language>
  <cp:lastModifiedBy>sitter</cp:lastModifiedBy>
  <dcterms:modified xsi:type="dcterms:W3CDTF">2013-12-03T16:15:41Z</dcterms:modified>
  <cp:revision>16</cp:revision>
  <dc:subject/>
  <dc:title>Agreement </dc:title>
</cp:coreProperties>
</file>