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01E-E2DC-4677-A146-1450BE0B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407-3E59-44B3-B22B-189986E5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B2C-CE4F-465C-9D36-ADB22ED4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104-E0C1-4390-957B-995A0F64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1842-D68C-4408-814A-D9085EB3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222D-A785-44B9-8BEF-20C609DC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8FCD-BF33-491E-AC6C-6E775E98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AF81-18F4-461E-82F3-B238DE72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6D9B-D71D-45E4-9750-F59CBC49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5BF4-6F61-4400-8DFD-7F0D7854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EAB1-DA6E-4A10-8B4C-1043AB78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21D-76B3-4423-A4F3-15B93BA0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2A69-60CD-4C8B-96B2-D2330985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AC01-7616-40A8-80C1-86F0C7E8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3BC9-A78F-47B0-ABBF-EFA3FC40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6F41-632B-4F04-99D5-BEEEE049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1348-828B-440B-B3B6-425D02E8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83584-BFD1-4371-91B3-5CB50C32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BA2E-AEBB-4BAA-A5D4-369EC5EA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F3991-E725-49EB-8367-090137D0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55C63-D9F2-4B0F-BAA9-49D138C8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2AC5-2F70-4A64-8E80-BE66DCAC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23DF-1DF1-4FA9-A846-50A8219D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AFAAA-E815-44E9-9CC8-BDBDE007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92EE3-5C35-44A9-8168-8A5E2158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D11F5-950D-4EAD-A40C-F7E30946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E7DF7-CC5C-4EA3-812E-23911FA9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4D0BC-D4A4-4C28-BE17-87630F5B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6F7CD-1AB8-4C52-878F-75BEAEF1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D5B3-9F24-4704-83C4-6944CBF1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66755-C3F5-42B8-8E8F-CF565252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E695A-281E-4998-A438-105379B0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3D404-565C-4610-86AE-CEEF0EE7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D63-BA1F-4356-8ADD-6A67A7C9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7F742-EE7D-436B-8EC6-C19303D3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BDDA5-7599-4A68-8BDC-65CB095F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F5327-9B54-41E3-A432-DB35F8E8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CBA8C-66F8-4C0E-B176-CCEE8D68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5F655-A6CE-40C6-839C-187885EC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0E3F0-6F9A-426F-95C2-4EACDAF2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49A7A-1545-454F-9FC4-31242325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DE236-6FBF-45BB-9AC9-BD3A1DDB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C17F9-73CB-4EC4-8111-37DEBE2E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9FDE9-7746-4A6E-A631-9A65B1B5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A8E-D3C2-41F2-93FE-B91237D0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6BCE6-292E-4791-915A-695770FE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97B29-4BA4-4B3F-890F-0E3BAF9A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3DC14-2CB7-4A49-B27B-8DE5C3E3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DCBFF-7879-418A-9261-E2DBFE06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B60AB-FE42-4339-BEC4-E2417AA2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4078D-1665-4B37-B9AE-A35C58A0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207FC-97C6-41D2-B529-85DF562D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3DC3F-01E3-4334-B919-D2077906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61863-732F-45DA-8D25-D3F596B8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ACC44-244D-4E15-9666-08FAB6C4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5D1-74B9-4090-8DA5-8126F84B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F245F-5FFF-41FB-9E44-B5F44DAC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1F4C2-CFB7-41BF-BE83-5F4DBA32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8482B-F285-401C-BB7D-E7433C77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76CE7-6C83-4FA7-A2F8-A3276ED2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5547E-C74F-4A31-96DF-FA2E5095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03476-00B1-4A57-99AA-16C2E29C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8231F-7729-49F4-AA35-E555D868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66F64-755F-4D9E-8B45-1E20282C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70C70-30D0-49B2-BCC0-52F0E922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77863-DCB5-42F2-ABAD-7BC85F1B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C6F-6BFA-40C5-B579-714D685E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4AA89-42A0-499D-AD8A-6BAA6A8F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40B5F-7742-4B09-B3D4-3F6F003D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D7DDD-76B4-498A-B1FF-CC5A3A05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00E76-ED82-420E-8CD4-63E7AE9C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04D96-D4B5-440E-99FC-87FBB1D5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E0115-4992-4051-AD72-73DD0014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7F86F-F572-4A0F-BDB8-199E4F08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165C0-AB99-4AE4-8457-7987ABCC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0A6E3-4551-4DBB-B379-00F5AC59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342A4-2D40-462B-A678-D9608CCD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B62-A93E-499F-A163-B94CC826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76CF9-A950-41CB-895C-CCB38916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EE12D-95BC-48C7-8146-2722375F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92624-27F4-45AE-A316-9DEA9696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8BBF3-31B4-4F66-82B1-5A31A646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A3D0D-F27C-4846-B58D-B1FEE279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2429F-AE9A-46AA-9379-4D042ACC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30EA7-567E-4312-AD30-20AD688F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CBC28-AFB5-4270-9457-B2CA20B0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8A924-4BF9-4A0A-A2F9-9B94FF9C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6EAC6-9A25-427A-A300-10D16864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A6C-FB1A-4A06-A39A-7EA4CDFB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6EA4B-DDDE-419E-8E0F-49B4ABBB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E0605-4818-425B-AD2D-9B290E0C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B08C7-C810-41EC-94C8-632550BC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0DECE-F811-49D4-884D-E9CC749E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727E0-A0B7-4D81-A819-562AFE93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087C5-813E-4240-92AE-F05C4A18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24650-BFCD-444F-8EE7-078B355C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F87E3-4756-4E16-A582-D96900F3958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4E6AF-FA06-4FC2-847B-211BFE1F1F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9697A-B613-40EB-8E3F-803A7DD8D64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F0F81-C39C-4BAB-AA09-2871715078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B971B-7B5F-4D1A-9D1B-25933070945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35932-8E40-4DEF-923F-9743D75189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DBBE9-14B1-4AA4-92F2-80E9B4B311A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5CC11-E637-4863-B6A1-C600668439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5C3CA-D95D-4279-8032-7115FDFFA5B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2305A-2342-42D1-A26D-0DB0697973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0BEB1-0466-468C-B8D7-622A4BE494B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395D9-CB7D-4929-9D3E-094BD7A23A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167DA-0799-4CD7-9522-44AD102E1B3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68930-C4D7-42E2-AF53-64CAFFB0A2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0CB89-6061-4FF7-9993-09C0540BAF4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15234-7D25-4F50-A23B-C3BC465E65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589960" cy="2060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ntro to L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2562120" y="1515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5157720"/>
          </a:xfrm>
          <a:prstGeom prst="rect">
            <a:avLst/>
          </a:prstGeom>
          <a:ln w="0">
            <a:noFill/>
          </a:ln>
        </p:spPr>
      </p:pic>
      <p:pic>
        <p:nvPicPr>
          <p:cNvPr id="39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7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and singular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Plural and plural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or singular = singular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Plural or singular = singular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Singular or plural = plural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pic>
        <p:nvPicPr>
          <p:cNvPr id="38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4:55:11Z</dcterms:created>
  <dc:creator>ndadmin</dc:creator>
  <dc:description/>
  <dc:language>en-US</dc:language>
  <cp:lastModifiedBy>sitter</cp:lastModifiedBy>
  <dcterms:modified xsi:type="dcterms:W3CDTF">2013-12-03T16:15:41Z</dcterms:modified>
  <cp:revision>16</cp:revision>
  <dc:subject/>
  <dc:title>Agreement </dc:title>
</cp:coreProperties>
</file>