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48D-A1DB-43EA-A525-E051317F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DF3-2074-4525-AFE5-FE23C7D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82B-7D2A-425D-81A4-10585E0F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2C0-2D43-4F0A-87B1-71EAB52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E67-5D32-4B0E-A0FF-842958FF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91D-5012-422D-AD1B-F9D9952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484-9EC8-4CFE-B361-2D07E4A9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4B2-3183-4271-BD73-A9FA321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9E6-F5E9-474A-8F69-1D758FDE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9A3-AB18-4C29-B301-366B363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321-1161-415B-BF66-BF73CD4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D4E-6EEB-45FC-A6F6-BA8D211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DAF2A-C34E-45BD-B063-2696C40CDB6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B4D34-C662-4008-8EE8-9B3BAFD811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Language of Shakespea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Elizabethan 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st – for; in preparation f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lady’s love against some other maid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eo and Julie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.ii.9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ck – alas (an exclamation of sorrow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, and – i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n – so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 – y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– only; exce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n – e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r – ev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ly – perha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py – fortu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nce – away; from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 – hu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her –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ry - inde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ce – w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t –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al – in addition; notwithst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uld - w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in – glad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x0016_nobleman in town, one Paris, would fain lay knife II.iv.19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ercy – 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end – to do 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go – theref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tle – having good man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– almost like slang “get out” (when something is unbelievabl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e – an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oss – to challeng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37:16Z</dcterms:created>
  <dc:creator>ndadmin</dc:creator>
  <dc:description/>
  <dc:language>en-US</dc:language>
  <cp:lastModifiedBy>sitter</cp:lastModifiedBy>
  <dcterms:modified xsi:type="dcterms:W3CDTF">2012-10-22T00:47:36Z</dcterms:modified>
  <cp:revision>2</cp:revision>
  <dc:subject/>
  <dc:title>The Language of Shakespeare </dc:title>
</cp:coreProperties>
</file>