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5EA-A133-42EF-AE61-C6198AE8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6F7-0B19-4FC6-9B75-00CC5DB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0D2-6EDD-483B-9E95-1AAF248A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1B4-3F3A-4DDE-98C6-7BCB431A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D24-9761-4B09-B3B8-1F49596C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C98-2554-432E-A965-A0E8518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72A-B837-480D-872D-E0CF82B6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2F8-DDF7-4C99-8ADF-D1B048C1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068-0C0E-4502-8507-02C24A72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CE1-003C-488C-97F0-3FB3C00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1BB-80F1-49D5-9000-AE4D044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CE0-491A-4A83-8002-AA4BFD3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E296A-A2EF-4C83-B291-53E94D61A97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EB8B3-519D-4750-9E7F-11153B955F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Language of Shakespear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Elizabethan Langu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ainst – for; in preparation f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our lady’s love against some other maid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omeo and Julie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.ii.96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ck – alas (an exclamation of sorrow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, and – i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n – so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 – ye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 – only; excep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n – ev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’er – eve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ly – perhap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ppy – fortun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nce – away; from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 – hur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ther – 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ry - inde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mon Elizabethan Language Continu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ce – wh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t – w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al – in addition; notwithsta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uld - w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in – glad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_x0016_nobleman in town, one Paris, would fain lay knife II.iv.19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amercy – 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tend – to do 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rgo – therefo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tle – having good man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 to – almost like slang “get out” (when something is unbelievabl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rge – an or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oss – to challenge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6:37:16Z</dcterms:created>
  <dc:creator>ndadmin</dc:creator>
  <dc:description/>
  <dc:language>en-US</dc:language>
  <cp:lastModifiedBy>sitter</cp:lastModifiedBy>
  <dcterms:modified xsi:type="dcterms:W3CDTF">2012-10-22T00:47:36Z</dcterms:modified>
  <cp:revision>2</cp:revision>
  <dc:subject/>
  <dc:title>The Language of Shakespeare </dc:title>
</cp:coreProperties>
</file>