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E47-DD4E-4234-A371-E42BE70C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68D-F10A-461B-989B-6D5F5791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115-35AF-424B-996B-ECF20946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247-AB50-442D-AF3B-60276099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763-FAAA-4B8D-8E40-367B238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BB6-DED9-41E8-944B-C760831D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6F0-279F-417B-B8EC-942B1D7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483-B233-48BF-9F5A-99EF87D9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601-DFBA-405A-8AB6-2776B99B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27E-A8A2-48AD-946B-D87510C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BB7-24A9-4385-AB4B-3E631DEA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B00-EB82-4EA7-8F14-82383B9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E1792-3D12-4D52-8E8C-4E37E91E58FB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0B1FD-20A7-43E1-AB21-6F944951CE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Language of Shakespea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Elizabethan Langu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st – for; in preparation f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lady’s love against some other maid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omeo and Julie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.ii.9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ck – alas (an exclamation of sorrow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, and – i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n – so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 – y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– only; exce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n – e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r – ev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ly – perhap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py – fortu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nce – away; from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e – hu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her –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ry - inde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ce – w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t – w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al – in addition; notwithsta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uld - w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in – glad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x0016_nobleman in town, one Paris, would fain lay knife II.iv.19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ercy – than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end – to do 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go – theref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tle – having good man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– almost like slang “get out” (when something is unbelievabl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e – an o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oss – to challenge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6:37:16Z</dcterms:created>
  <dc:creator>ndadmin</dc:creator>
  <dc:description/>
  <dc:language>en-US</dc:language>
  <cp:lastModifiedBy>sitter</cp:lastModifiedBy>
  <dcterms:modified xsi:type="dcterms:W3CDTF">2012-10-22T00:47:36Z</dcterms:modified>
  <cp:revision>2</cp:revision>
  <dc:subject/>
  <dc:title>The Language of Shakespeare </dc:title>
</cp:coreProperties>
</file>