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D464-E1E4-4B55-8F1D-3FE15E18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68B-E948-4045-B81D-FE732680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B51-FB71-44B6-A1B1-F9CD224C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058-2093-441B-8F69-B176322B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F9D-7CBC-4711-BB99-2CC95148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610-96E0-475C-856C-DD723564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90A-DF9E-4E16-BB05-E2D080EB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1E7-9A0B-4540-B67F-F3CF6723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51F1-78E1-41CF-A99B-B0492841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17B-614C-4E3C-9DD1-34992D05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A4DC-B271-4CEA-BA5C-9B278D94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86E2-8B50-4510-BA08-04CADDA5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8AE21-0475-4D92-A85F-CBA7C64EF25B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FF433-CA2D-405A-806C-C3E834FD5BD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Language of Shakespear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on Elizabethan Langu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ainst – for; in preparation f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r lady’s love against some other maid 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omeo and Julie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.ii.96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ack – alas (an exclamation of sorrow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, and – i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on – so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ye – y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t – only; excep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mmon Elizabethan Language Continued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’en – ev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’er – eve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ply – perhap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ppy – fortun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nce – away; from h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e – hur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her – h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ry - inde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mmon Elizabethan Language Continu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ce – wh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lt – wi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thal – in addition; notwithstan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uld - wis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in – glad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_x0016_nobleman in town, one Paris, would fain lay knife II.iv.197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mercy – than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tend – to do 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rgo – therefo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tle – having good mann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 to – almost like slang “get out” (when something is unbelievable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rge – an ord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ross – to challenge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6:37:16Z</dcterms:created>
  <dc:creator>ndadmin</dc:creator>
  <dc:description/>
  <dc:language>en-US</dc:language>
  <cp:lastModifiedBy>sitter</cp:lastModifiedBy>
  <dcterms:modified xsi:type="dcterms:W3CDTF">2012-10-22T00:47:36Z</dcterms:modified>
  <cp:revision>2</cp:revision>
  <dc:subject/>
  <dc:title>The Language of Shakespeare </dc:title>
</cp:coreProperties>
</file>