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71F-8D57-4762-8409-6697228E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992-A39A-4D57-AB54-F44A9F39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A9103-BAA5-4E42-9899-73A7D62E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C204D-C6BE-4DA4-BC0D-F6A37EF7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884DF-F7B8-47BC-BD99-426CB457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B8F9D-135B-4C42-A7BC-71B444ED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CD6D4-DE4F-48A8-8E55-87F7A998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CA917-604E-4C40-97D1-7B7BBA8A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ECF1D-B4EC-46B5-A5C9-65AF34E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C4D44-3905-48CC-A962-44317CAE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5CA1D-E0D6-4610-A813-688CC941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7C0-2918-4CF9-9A16-413401D2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A39-3049-4912-9B5C-B92DF365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F760-0039-48CA-8B5C-D0D5B471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EC0A-C916-4F67-A930-F4453CFB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26FE-7B41-40A4-9624-30378B02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0B8B-2164-4927-88C7-AED52824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4031-D8E1-4AC7-9EE1-86517084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A0A2-815D-4840-AECE-ED49E5A2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3AA7-1363-4EAA-8892-F4EF23C1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D13-16A3-4B73-8354-AC1A986E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240F-FD48-46AB-9C9F-64203224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28D9-61A9-43B2-83E7-4E9ABB0F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92A1-3D72-4229-88B7-F0238509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1327-BF5C-4B63-9DD3-E60987CA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FCF0-4D53-4164-9294-7C8B5072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1BEA6-3E6E-4D4C-AB50-CF810F41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D3A6-03FA-47C9-A465-A7875CE4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FBDD-E22C-43B9-AB23-007D7092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D470-947D-4FD4-B96E-5B7BAEFE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ABA4-8090-42C5-B881-E72AD391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6FC-9BAE-4515-B28D-D6F06457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C347-38A3-4803-8D51-113640C0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9D69-9F27-4C22-BDB6-C9AE4E9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7B26-0A40-4E57-A58B-50D09669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95B1-0DE9-4BD1-A3F9-F034089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1B894-B49D-41EE-B719-4BEFB5E2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23F5-CACD-44BE-9ED5-81DC221B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E206-4AE6-4F6A-9647-EF85C07D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7AD45-B084-4531-87FD-04068F3C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BF77-51FC-447E-BF55-017BDD11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EB6C-C252-4AB6-B4F0-8B21B02E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5C8-8A06-4C41-AF37-5AE2F3C3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2ECCC-D0C5-4FE5-B39D-7FD589FB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0992-9137-435A-AA33-C6D583D8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9EBCB-5647-4270-8A36-CD0ACEDD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DFDD-FB51-456B-B548-069B1E29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2CC74-878C-46D3-9D82-58C8F77C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64252-B417-462C-8D44-06F89D05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89092-CFBC-4A3F-B038-737E824C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933B4-1762-4B69-A695-846E9D4C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F90B5-8EB9-42E1-9394-233E884F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6F751-C923-495C-A8A4-FCC1A250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31B-679F-4D1A-92E4-63DD15A7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F48CE-1296-4367-A5C8-502A6468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5B362-B93E-4393-BB0D-65898E78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0FF4-AB32-4687-8A64-15B78DF3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3C36-BB88-4C52-84DE-8FECC2B1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621C4-87CB-4D41-BBE0-26FB4707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ED45C-0938-4355-AAE0-F537007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932D-61AD-4C85-A418-34CB013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96F96-76F2-4433-AF00-7B801079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A9DCE-605A-4BA5-9E21-B10470D1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5C60B-FF02-44CC-B1B3-F923FB24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487-76AC-49B6-A5D7-AD892E95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78B78-2A4D-454C-BBCC-ECCF0A65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79209-6E7D-4776-BFCD-091376CD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ADB09-BEBB-4E6E-8A88-E5EAD80C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8D95B-7AF1-4426-A5F8-9BFC9FD4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D3A20-229C-4EDA-AF28-5446C4B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FABC6-BA15-4939-8067-7B9171CC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10C85-1446-449B-81F5-08B9BC60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26975-AD60-430F-8856-52B0A7AA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6E4C9-C023-4FAC-88ED-1C462E0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FB7A5-0B31-481E-B067-D5C2D955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3CD-DED3-4AE5-89A3-8C8B778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84F08-9629-482B-9EBF-EB95FA7E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FC611-2F2F-45E8-B322-1D994FA0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502A0-100D-43A2-94BA-7196DB64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0FF17-A922-4648-B1F1-DECC0F25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7AA8F-6299-44E6-8351-8FB788CC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D9BC-8ACD-43D1-B7B6-310C8A4D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44EB9-19E8-46DE-BDF1-42185491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42AFE-0894-4307-BA51-E2FD907B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63990-EEF6-4C57-B21E-9C432554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1E13F-EC27-4DE3-8C83-4556FFCD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90B2-FD54-4732-91D7-9CAA9F58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2928D-7C74-456E-ABE8-536E2F5C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3C21C-E99D-4DEC-A7A4-EB89CCED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48545-AC55-47AE-89D9-8E5F8448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343A3-32A4-4719-BEF1-5998DC30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F5E12-A339-44D2-AD91-AEC07890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DB028-8B4F-4048-8885-5865169E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52FE9-869F-41F4-9C3C-F95557E4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2BCAE-A38E-42C1-AA5C-E10084C5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6166-BCFA-4619-A8A7-0149BCED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D3B88-254F-4EBD-A87C-AD4DC474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CB6-2F3D-4E6E-B418-B132BEDA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8589A-9696-4930-8CB0-77C359A6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BAE82-4893-4884-A2EA-3FB16DF1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161D0-46A3-44FE-89DA-7A720A88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721FE-FD7A-4054-9D8F-65E7DB4E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E6F1E-A5BB-4C3B-9BE0-8D76B527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47559-6DF5-4BDA-8200-56FD2B03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BCAC3-9754-4877-9423-B043D212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663F2-84EE-48A4-B1E5-F3C8698B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25C57-5C9C-4550-BAD1-06EF2488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DD0B1-7BE5-47E9-9ABD-C06D7290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E2DDB-C4D6-4992-97F2-FC904D297B55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DF243-D2CB-4845-81D1-FB2A8BE5B07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BBAC3-AC1B-4161-A78C-68CCF81D6140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A9983-57E0-45C4-A020-CF4E202A625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6B737-9B4D-400A-BA63-1807F570175B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69501-26C6-4FBC-8F35-1C2EA9F7A032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6CBAC-DB40-476D-AD95-0A370EECBCD0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71CEE-8B91-4626-AA1A-4C46E3BF594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9AB92-9DFA-4365-B505-5D7BE62F07E2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A8872-E443-4D6F-B247-25BC5B4CF40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BBB3A-67ED-4213-9CC1-746ECAA2C1E3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040AA-B513-4256-93FB-4A3BF86D6B22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51ED6-8D5F-4F74-9AED-6366C95EBAE9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86CFA-EC3D-4B74-B17E-E456D37DA12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18556-FF46-490A-B94B-2703940C6440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9040D-7067-4F98-9CFB-34DC26BA639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E4F9E-3612-47FD-9371-9006569E5586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5311F-0987-4928-A55E-31D77F98C8C4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Pronoun and Antecedent Agreement 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tro to Li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39800" y="2333520"/>
            <a:ext cx="766296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2. A personal pronoun should always refer to a single, obvious anteced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 saw the procedure in the manual, but now I can’t find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 saw the procedure in the manual, but now I can’t find the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procedure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I saw the procedure in the manual, but now I can’t find the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anual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3. Use the personal pronoun “you” only when the reference is truly to the reader or listener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you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s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sto MT"/>
              </a:rPr>
              <a:t>Personal Pronoun/Antecedent Agreement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2322360"/>
            <a:ext cx="82296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personal pronoun must agree with its antecedent in number and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number of a noun/pronoun indicates whether it is singular or plural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rs. Jones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he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The Jones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family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pronoun should indicate the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Amy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accessed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er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friend’s Home Pa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John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los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vocabulary packet. 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Or/Nor/And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2490480"/>
            <a:ext cx="844884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singular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or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 or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nor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Neithe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Keith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no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Rob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remembers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password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plural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and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Emily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and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Christina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ave turned in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omework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hift in Pers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Be careful not to shift person when dealing with pronoun/antecedent agreem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you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she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s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nknown Gend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When gender is not specified, use the masculine and feminine pronouns or rewrite the sent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A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 a secre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s a secre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sing Reflexiv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2306520"/>
            <a:ext cx="848196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reflexive pronoun ends in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f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r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ve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d points back to a noun or pronoun near the beginning of the sentenc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. Joey taugh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mself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o play the piano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reflexive pronoun must have an antecedent in the sentence which it appear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odd helped Jen and myself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odd helped Jen and me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Jen searched the Internet herself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Indefinit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24000" y="2389320"/>
            <a:ext cx="8686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singular pronoun to refer to a singular indefinite pronoun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plural pronoun to refer to a plural indefinite pronou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All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f no gender is specified, you can us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or her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Every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aved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ocumen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No 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as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wn paper to correc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739440" y="2623680"/>
            <a:ext cx="803268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An indefinite pronoun that can be singular or plural, agreement depends on the word to which to pronoun refers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document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los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i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formatting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studen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rough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ooks. 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39800" y="2769840"/>
            <a:ext cx="7662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Problems can occur when antecedents are unstated or unclea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1. A personal pronoun requires an antecedent that is either stated or clearly understoo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they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ho is they??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n’t explained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R 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e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the computer developers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3:17:15Z</dcterms:created>
  <dc:creator>ndadmin</dc:creator>
  <dc:description/>
  <dc:language>en-US</dc:language>
  <cp:lastModifiedBy>sitter</cp:lastModifiedBy>
  <dcterms:modified xsi:type="dcterms:W3CDTF">2013-03-13T13:18:36Z</dcterms:modified>
  <cp:revision>8</cp:revision>
  <dc:subject/>
  <dc:title>Pronoun and Antecedent Agreement </dc:title>
</cp:coreProperties>
</file>