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263-7B66-47D6-9B19-EA1F4ACB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844-05BE-4634-AD62-D66261B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5E943-4387-4DA2-9CEA-BFF09A5B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C6242-E2FC-47E9-8BF9-4882BA7C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61512-0356-42C8-B610-97D6A8A7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85586-7779-4033-A017-E30BFFC4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41642-07EA-49E9-89C6-9050F4B2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74203-6049-4A79-8C35-AAB9693A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07593-7813-41E9-A2E2-1CD14826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01CB6-A152-4237-8E67-AB09C094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81FA4-4E05-4B03-97C4-B0A735DA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9E0-C8CB-472F-81B8-CD5BAE35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FC5-0B3C-4DCE-AFED-7ACA9566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FC5C-9D9D-46E2-99C8-BA0B60BB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E6B-60D6-41DB-927E-F4541849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4B0-A995-4746-AB55-17D78134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B1E5-EC8D-4DA8-8906-D2C8AC02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F8DC-2772-43D2-9CF1-AB250724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8DBF-2EC6-47D7-A825-44D017A4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7B2D-7F2A-40F5-8778-6E8BE14C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0C0-8AA2-4270-841D-7B758E3A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8F6C-0D7E-4016-9B1A-2200BC09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3627-C9E1-4394-A8A3-37F96D78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0ADF-230A-47AE-845E-BE33BE83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5E38-ADA3-428C-8E0C-EFDD81F2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8F26-4445-4B31-BD51-3396CF65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3E42-D179-4971-80B3-A6E42A7C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E9C5-5216-43B4-9F88-67934B73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05C5-9192-429A-9525-DEE094CC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A59B-D29C-431C-9108-4BA82C2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B791-C5F1-4986-B0AB-3C7AF9DC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C32-E3F7-461F-BAFB-51F31CBD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51C8-B57C-4748-ACEC-45BB4397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2013-892C-4BFE-A491-43FD276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63A5-9BA9-4AA6-975F-33D40E4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B3227-DCD5-4771-83F0-48A3E9E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3BA5-3AD4-45E8-A0AF-1D95E879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D01D-AEEF-4B3B-9E49-68624D8A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7284-10B4-48FE-8750-38DEDE02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9E8B-2BF0-4996-BC3A-2576B351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A120-218B-4914-97A8-927A1375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D05F1-873D-4A4C-A0B2-3C5B77EE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BCA-2824-448B-89D9-8835C975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8EA1-D479-48DD-B8D7-074DCA5F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B12F2-D44C-4E99-8C3E-3A1A0A72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0157C-0DA3-4E80-BA19-ED4DA3E9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A6A4A-8A35-431F-BC4A-05C9348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C5FF-5B1C-4583-A4D9-8905E22A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BA519-CC41-435A-8626-80CD3153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43A9-97CE-4355-BEEA-DCDF52D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04BD-6030-42B2-9FE1-E09CAEC8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D9CE-9B90-4096-8201-C02CCA22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9DF9A-8766-45CB-9D55-A056AE6A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746-C7CD-4E85-8F13-D95FA7A5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57AD-2DE1-48C7-9A5E-BD68ECA7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CB2F-7A8F-4153-A821-152E75BD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65BF1-2D3A-416A-8CCA-E2080FC6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300D-91BD-4397-B50B-987C4EA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0636C-8667-44EA-BC69-83DD234C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92F4-2D1C-477B-9FA8-AC98D2B8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D8BEA-0630-4056-BBDD-4A8A4161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2098E-45CD-4B30-960E-554BEC3F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6C031-40FD-4153-AD7B-62917D08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F52E1-3AAA-4675-B2B6-F8E8DDEE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83F-023E-4633-8DDA-6C24BCA7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71C0A-8FD1-43A7-946D-AF9F6A09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996BA-48B8-423B-A632-1750E81A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E9B4E-8A93-4360-B539-05258DB7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87E2-6B84-4912-8E03-27446442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3BC42-8303-4747-8183-D8DD1A9B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5FEB-7924-4734-91F0-17DA05B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B9A0A-C5E6-4DF0-9090-2EB8ED67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F9160-E06A-473C-8553-5987769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4E8D-00E7-4DE1-B88D-F1F326EB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9779D-6D58-42D0-AA08-D84B576E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A0C-4FF2-49D1-947A-EE6200E8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1D29F-2DC8-4A0E-B611-FC79FA7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7043B-F695-41CF-B01B-52368719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CD77F-B69B-41F4-9A82-3C4ED224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CFD3-B04D-4F2B-BC1B-AB614363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3A6E5-113E-4777-AD38-AD0CE1D8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58CDC-0C61-49E3-814B-D5D012F7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E073A-EBAA-4A7D-AFCC-6E9CB404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7BD59-A25B-4448-9734-BE7D4FC7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07AE7-FA6C-4D4E-8530-0D2C90DE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62F60-29CE-4BB6-AAEE-74FCC6C9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770-63CB-4EEB-9B69-37A2D43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4CC4-7A36-4359-BC59-280CA4CE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CFB0-1BF2-45E3-AE60-833F91E0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BEBF-71F0-4E47-97B4-95ADE9B2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47CB5-0545-4331-BDDD-25912570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3A3BA-356E-4780-8A3D-E8A3FE90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5E2F-01D0-4FBE-8399-E7E23094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9EDD2-92D4-46B3-9FB8-3E53D719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8752F-D3AB-408F-851D-8A54883A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A1AA6-EDC7-4E14-ADD7-5D31F8D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31DDA-7AA3-413E-9995-6EE80772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F47-F65A-4804-83B6-AA495C7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B014-DD88-4B00-B211-8AFD532F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E127A-0E08-4458-9EAF-C5591FAA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A8784-9920-4165-B27D-0E3FBBE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B145F-C1D8-4631-AF9A-9BBCFC1D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313E0-93F5-473B-B391-EFEAF5A9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2E1C0-A919-4B5D-BB5C-75C3E248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0221C-0864-4A4D-8360-38454FE4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9C900-FFDC-4DD8-9F5D-4F84FA66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23A47-8291-4F46-95ED-18A80A69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97823-452F-47B3-AFB8-71C53D36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48379-94AA-4A63-B895-3F5B70457AE8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8761F-00D8-4E2C-AD46-B7D1E9C9454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76A9A-566A-4929-9F7C-0D7C5CA1EC5B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CAC3D-98B2-43D3-B965-CA97D8B4E6E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7DABC-E1BC-41B8-A56E-8B4954A85A9F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5FEA1-7935-461E-AB98-A6A99D5B330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9CC1F-86CB-4FEA-B69B-DB6F54735182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CF31C-767F-499A-830E-794A22EF1EB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5D946-FA98-4C70-8F43-4F5691F5E72C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516CD-CE9B-4D40-8084-16CAB51426A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DA1BA-EC9B-4ADD-9D06-6E444B77965D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9B8AC-D65A-41A2-B194-BFD89C370FC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462C3-C268-4386-8431-4AFEA6B33FEE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E8E1D-3B2C-419F-8819-2194A1D1728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3CBCF-3211-407D-9BE8-CFD68B8074CB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A510B-D581-40FE-A4F7-4C437F0D44B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B5EBD-0ED9-4F5C-AFFA-E045EEC9A624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001E2-CFB3-48C6-9154-52286E33366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Pronoun and Antecedent Agreement 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tro to Li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333520"/>
            <a:ext cx="76629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2. A personal pronoun should always refer to a single, obvious anteced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 saw the procedure in the manual, but now I can’t find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 saw the procedure in the manual, but now I can’t find the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procedure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I saw the procedure in the manual, but now I can’t find the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anual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3. Use the personal pronoun “you” only when the reference is truly to the reader or listener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you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s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Personal Pronoun/Antecedent Agreement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2322360"/>
            <a:ext cx="8229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personal pronoun must agree with its antecedent in number and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number of a noun/pronoun indicates whether it is singular or plura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rs. Jones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he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The Jones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family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pronoun should indicate the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Amy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ccessed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er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friend’s Home Pa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John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los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vocabulary packe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Or/Nor/And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2490480"/>
            <a:ext cx="844884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singular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or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 or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nor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Neithe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Keith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no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Rob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remembers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password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plural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and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Emily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and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Christina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ave turned in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omework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hift in Pers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Be careful not to shift person when dealing with pronoun/antecedent agreem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you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she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s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nknown Gend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When gender is not specified, use the masculine and feminine pronouns or rewrite the sent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A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 a secre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s a secre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sing Reflexiv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306520"/>
            <a:ext cx="848196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reflexive pronoun ends in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f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ve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d points back to a noun or pronoun near the beginning of the sentenc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. Joey taugh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mself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o play the piano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reflexive pronoun must have an antecedent in the sentence which it appear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odd helped Jen and myself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odd helped Jen and me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Jen searched the Internet herself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ndefinit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4000" y="2389320"/>
            <a:ext cx="8686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singular pronoun to refer to a singular indefinite pronoun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plural pronoun to refer to a plural indefinite pronou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All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f no gender is specified, you can us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or her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very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aved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ocumen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No 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as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wn paper to correc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39440" y="2623680"/>
            <a:ext cx="803268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An indefinite pronoun that can be singular or plural, agreement depends on the word to which to pronoun refers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document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los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i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formatting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studen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rough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ooks. 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769840"/>
            <a:ext cx="7662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Problems can occur when antecedents are unstated or unclea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1. A personal pronoun requires an antecedent that is either stated or clearly understoo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they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ho is they??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n’t explained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R 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e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the computer developers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3:17:15Z</dcterms:created>
  <dc:creator>ndadmin</dc:creator>
  <dc:description/>
  <dc:language>en-US</dc:language>
  <cp:lastModifiedBy>sitter</cp:lastModifiedBy>
  <dcterms:modified xsi:type="dcterms:W3CDTF">2013-03-13T13:18:36Z</dcterms:modified>
  <cp:revision>8</cp:revision>
  <dc:subject/>
  <dc:title>Pronoun and Antecedent Agreement </dc:title>
</cp:coreProperties>
</file>