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295-765A-47F6-945A-3CED044B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956-D0FA-4C72-BF0A-5B8FCF0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B92B4-04D1-44E5-870F-A5E9DAF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A49DC-243C-49D5-B6E2-24269702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20E43-2D46-4C29-88BA-3FFB8087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3B469-65B7-4E33-8D49-AA7990E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F1A7F-AE80-4339-B9CF-37710BE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5708C-053B-4ED1-B629-47231F7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B607F-A520-4DEE-BDFE-7FE089F0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A0405-3232-4155-940F-70E639CA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D077-FB12-4537-8CE7-658970D1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CA6-2CFA-440D-A7FB-87E88094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8FA-E14B-4D2F-BAC0-F77E4E03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FBBF-7C69-4B89-9559-5BCEFAF3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082F-F3A6-4708-B0A6-0B6B8C54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866-4E5B-4E02-A676-B4C6277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FA20-3270-48E8-AB07-00493B6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0579-6FC5-4922-8598-6F1FEE62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0BA-D51D-4783-B4C5-2CD2B7D7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779-3B4B-4F46-8073-1E0F1753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A6AB-43E8-4EC5-9B1E-D9A1F5D9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AB3-728A-47D7-B4A5-43CA962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A59-E7A6-43CD-932D-344F640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82A3-6730-49ED-9ACC-8E17CC36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01D1-F66F-4E95-BB58-56E29A12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8648-855D-4BDF-A12A-E9F6B36D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52CF-F7CD-451D-AC6E-2917FD61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20E6-017A-4544-9107-779FE6F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8CD0-A3A0-4527-B06E-F07C968F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142C-5939-4A1A-A59A-70AF43C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300C-380E-4578-8537-60F152E3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83A-0283-474F-AFAF-6A348B1E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CEE7-B667-473A-8226-41FFE3AC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6FC7-7CAB-4C1B-BFEB-E8568FB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52FB-223D-4341-868F-EDDDF24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8ECA-F070-4733-93F2-8D2F7C65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40FE-B240-4840-8D18-9F63B37B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53B3-4127-47B9-BD2C-5CD8475F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66600-F4B8-4C3D-8925-7033986D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3492-304E-4C2B-9F90-D4D03DFF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4B6D2-6E67-4E88-BB6B-C2610255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52C1-0482-41AB-B57D-2E31C41E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264-65EE-4B7D-89ED-BCD9ACD2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073F4-6041-49A2-823D-E54255E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9338-93E6-4F34-8B6F-F17D5CC9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B3EB-E1BA-469A-A914-D6D78CC7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71D1-C0E5-4D11-8CFF-9E6CECE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E84A-840C-471D-A71B-B89BBF1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8FC7-94EC-4030-8E8B-B8A4529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9268-8215-4182-A964-4039376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FD0A-9F71-4933-9656-9D332198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07B0-6021-4060-AA95-44EB0D4B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279B-E74F-43EA-B863-AAF7BF2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A96-C7AB-4D63-AD7F-17B2E35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8CE1-4172-40CB-A6BE-6542DD5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8F55-D81F-436D-8A95-9D52D33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AD48-24B5-437F-AA56-B36C6A7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0C81A-D988-4A92-BA79-6515BAA8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10D6-19ED-41F9-A5CC-49FA819A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123B-0F26-411E-948C-3C4EBA5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54638-7D77-41F7-8B15-733E565E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0B6E3-1BEA-4A12-832A-7A2ABF2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8895-65D9-46A2-BB1B-B91CDCF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1BD1E-A0FD-4B0A-A7C4-1614258B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D07-DC1C-4D4A-AF46-EEE16151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DC6D-28A7-4F79-8A17-08F52F18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A98D5-3BC7-4230-81A6-CC476D9A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2AD4-7E54-430B-967A-CDDEDBE5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CE60-79FE-49C8-9A03-AD781A48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1A651-5917-4FC0-BEFA-F65300E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3889-E57B-4B17-8005-0952D8F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A4AD-673E-49E7-A2F2-5C3D165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D751F-4902-4849-8F1B-D756FF6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6213-3342-4087-8634-E3127CC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6B4C-16BF-4FCF-ABC1-F2EE3F3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56A-564F-471D-A1B0-BA0B1B0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C4F3-3965-4785-8C25-B08D7D8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416B-BAFA-4197-9DE8-A699CA2C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3ED8C-3352-4833-95F9-EE393B77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69BA-5034-4687-91B9-671D6832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5CF6-1341-4262-AC2E-9D9F0BC7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4209-8EE6-4B1F-8FC7-C27A173C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EDFC5-F7DF-43B8-98BC-F50484F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D2CB-91FF-428D-84B5-3309CE2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CC718-A119-4696-975F-95336A92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B903-60C3-42CF-A7FE-7E93A79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AC4-094A-4F8E-A3AB-20B3126E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97D53-9728-45ED-AEC5-D376C4C3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F3A9-8BF1-4788-9EE4-4AAD4D6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AC781-8BEF-4564-98DB-E4466F95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7D157-D62C-40E2-9C56-91999E87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28C8D-4084-4B9F-9270-B51B332C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6BA3-4E58-469A-AB03-34CB5A9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9B43-4C0C-4E5D-B560-F7F60FBF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34E4-C9B6-4548-A41A-6ED6773E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6A0F-89AE-4229-8C24-20A02A96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1D5D6-6155-4536-B85A-1A010D0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00C-5D95-41A7-BCE9-532671D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5065E-8673-44F7-B7B0-0D13105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5AEA4-1D9A-4655-9CCE-4CA7407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82259-67D1-4088-AEC0-BA98DCC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9CE20-54A2-466D-87B3-17232D9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4507E-AA06-487B-8F14-A705A972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E73A1-DE27-4961-986F-D9E72ECE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293A2-008B-4047-9D2E-40A25163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A64CE-7031-4498-9EFC-37968D21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9BFDE-016C-42E4-A19A-C326022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D92B6-615E-49C9-90B7-4FC25A7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84DF6-592B-4AD6-9E9E-72674995B49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C2FE0-5669-4678-B0D0-93CF71BADBE3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52DF1-41FC-41CF-BEC4-2A7DECEA7C17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2B751-82BC-42CA-84E8-5BBA9D572C9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0EF36-D6CA-4F9C-8E5C-27C3F215047A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9519-03DE-4F66-9AC6-28A7A9D2104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68CA4-3AC1-4FF8-BB32-719AD5230619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20BA9-2558-4D8B-9CCD-ADF4B6F5270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5AA90-0BD2-4F44-B24D-FCFE0C0C9F48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5C7FC-C329-4441-B732-17FFC87622E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398CD-535D-41F5-9939-C194D0808AD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9E7A8-69AC-4841-B811-37E83294239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B1156-01E9-4F79-AFD6-3D32F9964234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E039C-D523-4F7C-8740-56372BD795C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3185C-196D-4F08-A023-CDCDE5E76E4C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C3409-7A22-4B64-9DC4-2C5B5000279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91534-606A-4905-B372-8457F8767C4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88BB9-DC44-42DF-B5AB-F8D2E6A29D8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Pronoun and Antecedent Agreement 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3308040"/>
            <a:ext cx="8228160" cy="10666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tro to Lit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333520"/>
            <a:ext cx="766296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2. A personal pronoun should always refer to a single, obvious anteced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 saw the procedure in the manual, but now I can’t find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 saw the procedure in the manual, but now I can’t find the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procedure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I saw the procedure in the manual, but now I can’t find the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anual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3. Use the personal pronoun “you” only when the reference is truly to the reader or listener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you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64920" indent="-32616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In a sound studio,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ees high-tech equipmen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Personal Pronoun/Antecedent Agreement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2322360"/>
            <a:ext cx="822960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personal pronoun must agree with its antecedent in number and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number of a noun/pronoun indicates whether it is singular or plural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Mrs. Jones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he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2" marL="1035000" indent="-349200">
              <a:spcBef>
                <a:spcPts val="6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EX: The Jones </a:t>
            </a:r>
            <a:r>
              <a:rPr b="0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family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 painted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house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 pronoun should indicate the gende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Amy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ccessed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er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friend’s Home Pa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John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los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vocabulary packe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Or/Nor/And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2490480"/>
            <a:ext cx="84488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singular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or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 or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nor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Neithe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Keith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nor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Rob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 remembers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password.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marL="318960" indent="-3189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Use a plural personal pronoun to refer to two or more singular antecedents joined by </a:t>
            </a:r>
            <a:r>
              <a:rPr b="1" i="1" lang="en-US" sz="2600" spc="-1" strike="noStrike">
                <a:solidFill>
                  <a:srgbClr val="595959"/>
                </a:solidFill>
                <a:latin typeface="Calisto MT"/>
              </a:rPr>
              <a:t>and</a:t>
            </a:r>
            <a:r>
              <a:rPr b="1" lang="en-US" sz="2600" spc="-1" strike="noStrike">
                <a:solidFill>
                  <a:srgbClr val="595959"/>
                </a:solidFill>
                <a:latin typeface="Calisto MT"/>
              </a:rPr>
              <a:t>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Emily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and </a:t>
            </a:r>
            <a:r>
              <a:rPr b="0" lang="en-US" sz="2600" spc="-1" strike="noStrike" u="sng">
                <a:solidFill>
                  <a:srgbClr val="595959"/>
                </a:solidFill>
                <a:uFillTx/>
                <a:latin typeface="Calisto MT"/>
              </a:rPr>
              <a:t>Christina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ave turned in </a:t>
            </a:r>
            <a:r>
              <a:rPr b="0" i="1" lang="en-US" sz="26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600" spc="-1" strike="noStrike">
                <a:solidFill>
                  <a:srgbClr val="595959"/>
                </a:solidFill>
                <a:latin typeface="Calisto MT"/>
              </a:rPr>
              <a:t>homework. </a:t>
            </a:r>
            <a:endParaRPr b="0" lang="en-US" sz="2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hift in Pers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Be careful not to shift person when dealing with pronoun/antecedent agreemen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you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rrect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Anna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s studying physics, a course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she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eds for a degree in sci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nknown Gend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When gender is not specified, use the masculine and feminine pronouns or rewrite the sentence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A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 a secret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lang="en-US" sz="2200" spc="-1" strike="noStrike" u="sng">
                <a:solidFill>
                  <a:srgbClr val="595959"/>
                </a:solidFill>
                <a:uFillTx/>
                <a:latin typeface="Calisto MT"/>
              </a:rPr>
              <a:t>Student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uld keep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asswords a secret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Using Reflexiv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306520"/>
            <a:ext cx="848196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reflexive pronoun ends in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f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–selves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nd points back to a noun or pronoun near the beginning of the sentenc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. Joey taugh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mself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to play the piano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A reflexive pronoun must have an antecedent in the sentence which it appear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odd helped Jen and myself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odd helped Jen and me search the Interne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Jen searched the Internet herself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Indefinite Pronou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4000" y="2389320"/>
            <a:ext cx="8686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singular pronoun to refer to a singular indefinite pronoun.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Use a plural pronoun to refer to a plural indefinite pronoun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All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f the boys will print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omework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f no gender is specified, you can us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his or her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very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saved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ocumen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No one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as </a:t>
            </a: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his or her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wn paper to correct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39440" y="2623680"/>
            <a:ext cx="803268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c1f94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An indefinite pronoun that can be singular or plural, agreement depends on the word to which to pronoun refers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document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los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i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formatting.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EX: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Some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sto MT"/>
              </a:rPr>
              <a:t>of the students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rought </a:t>
            </a:r>
            <a:r>
              <a:rPr b="0" i="1" lang="en-US" sz="2800" spc="-1" strike="noStrike">
                <a:solidFill>
                  <a:srgbClr val="595959"/>
                </a:solidFill>
                <a:latin typeface="Calisto MT"/>
              </a:rPr>
              <a:t>their </a:t>
            </a: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books. 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 Problems in Agreemen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769840"/>
            <a:ext cx="7662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Problems can occur when antecedents are unstated or unclear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sto MT"/>
              </a:rPr>
              <a:t>1. A personal pronoun requires an antecedent that is either stated or clearly understoo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they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ho is they??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Correct: The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2000" spc="-1" strike="noStrike" u="sng">
                <a:solidFill>
                  <a:srgbClr val="595959"/>
                </a:solidFill>
                <a:uFillTx/>
                <a:latin typeface="Calisto MT"/>
              </a:rPr>
              <a:t>it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wasn’t explained clearly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60880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OR Correct: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The </a:t>
            </a:r>
            <a:r>
              <a:rPr b="0" i="1" lang="en-US" sz="1800" spc="-1" strike="noStrike">
                <a:solidFill>
                  <a:srgbClr val="595959"/>
                </a:solidFill>
                <a:latin typeface="Calisto MT"/>
              </a:rPr>
              <a:t>program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was easy, but </a:t>
            </a:r>
            <a:r>
              <a:rPr b="1" lang="en-US" sz="1800" spc="-1" strike="noStrike" u="sng">
                <a:solidFill>
                  <a:srgbClr val="595959"/>
                </a:solidFill>
                <a:uFillTx/>
                <a:latin typeface="Calisto MT"/>
              </a:rPr>
              <a:t>the computer developers </a:t>
            </a:r>
            <a:r>
              <a:rPr b="0" lang="en-US" sz="1800" spc="-1" strike="noStrike">
                <a:solidFill>
                  <a:srgbClr val="595959"/>
                </a:solidFill>
                <a:latin typeface="Calisto MT"/>
              </a:rPr>
              <a:t>didn’t explain it clearly.</a:t>
            </a:r>
            <a:endParaRPr b="0" lang="en-US" sz="1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3:17:15Z</dcterms:created>
  <dc:creator>ndadmin</dc:creator>
  <dc:description/>
  <dc:language>en-US</dc:language>
  <cp:lastModifiedBy>sitter</cp:lastModifiedBy>
  <dcterms:modified xsi:type="dcterms:W3CDTF">2013-03-13T13:18:36Z</dcterms:modified>
  <cp:revision>8</cp:revision>
  <dc:subject/>
  <dc:title>Pronoun and Antecedent Agreement </dc:title>
</cp:coreProperties>
</file>