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3F1-92D1-4D89-A35A-939D2EDF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D56-6CDF-45FC-A5A3-0DEF26AB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D639A-4225-4DF8-ADE3-2EC58503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78BA8-5C5F-4235-925E-C3BFA8CC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7C7EE-34BA-4FBB-9F8F-4132E19A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40DFB-6192-4B9D-A989-5C46738E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5C4F0-D4C4-457A-ACF6-48F459E9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3CD52-DD11-4257-A55C-933A5A29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595FA-50C6-4E1D-8495-C346BE2E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D3262-5A46-4CD4-89E8-30735500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CF6A8-62BF-446A-8B30-69D9E4AE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C64-FEFD-4281-BF56-65B28FF7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D05-E167-4C47-9176-374631A6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00B4-0FD6-49FC-8E2E-204E39D7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883F-5FBD-4269-BD40-920CEE94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67A6-B8B8-4302-9C77-6681FC04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0077-FAD5-4C71-A120-F5EE99B8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9C2B-2C66-4A7D-8F7C-63D99B75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29DD-4011-4F72-845D-43ABE899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F578-A832-463D-B002-88FB5D22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8E31-9CCF-465D-AB58-97BA7141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4BD6-36A7-47BB-B7A9-4B5594BB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05E3-506C-4385-AB05-ABD53AEA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DB00-C3D2-4E04-9379-9EA367EF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1F5E-6A2C-4281-ACD4-AF1ACA5E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633E-AFF3-424C-A08B-4DEEBE1B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6D692-5B82-4936-B63D-6654768C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EB81A-5067-4509-AB98-071A34F8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35485-A4B3-4A2B-800F-6ABEFEDB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6D91-22BE-4B0B-A37E-84BA34A3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6244A-D8C3-4C2F-87CD-4C5C913D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FBFD-663C-4C4A-B9C2-013BCB37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8825B-D1B9-4FD5-A59D-7A1898DB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6414F-5AE1-4ADA-B704-A8C63B60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83E67-7699-4276-AB48-23C94340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CE039-69EC-4CD4-B83F-79F5CB63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BFE70-ACC6-418D-BD08-BD227C66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872DB-628E-459C-8B91-09EA221C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995EA-BFC9-458F-963F-D2AB6ACA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40CA9-4DB0-4FBD-AC35-E6BC958A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279FD-B528-4363-9F35-708D313E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64B7E-F5E2-4E03-8597-4BAB5727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FDC-30A1-40DE-8965-93697E78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6E0C9-EA75-4233-BEA2-DC89C0B7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CD37C-D2CA-420C-8533-3050158F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289F9-E472-4C89-A6ED-03DCC9D4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30F87-C0AB-40A7-8D25-81D659BA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99A22-4D93-4C5E-A707-363034FE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1416F-26ED-4397-B6C9-B3795860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61930-9A72-4BA3-889D-6CC41912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1E20E-67DE-4BE8-AED2-2E2BDB33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52CC4-16BA-49AD-8389-9F9D6E6D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C532C-CBCC-4E49-B1CD-A3AD3160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8EF-2C52-40FF-85C3-92F19E0D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15876-34B5-4365-9C32-21C1C7C4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6C615-EA52-4905-8279-0E3A9704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9C3FC-B830-4232-B620-80C7C7AE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9ECF5-1886-465E-91D1-B54D83D2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E5B42-E66C-49C2-AF83-0D01F626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44469-ADE0-4A1D-A672-68FAA035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93A92-348E-41C6-9171-58ECBD04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85780-A432-4974-A6D9-F1439018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7F2A9-8C45-4001-AAB7-8F25953E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1A4D0-3120-48FB-A504-F8400813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2F4-86F7-4194-A776-1E8D434E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915EA-082F-4E22-8D6B-CA4A1677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DB8CB-3561-4FA8-8123-312C2017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0E317-6660-4079-93A1-3A3E9571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30D58-617B-48B0-9968-E7431B23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2EE51-11B1-4C76-BBB2-2FB44AEB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15AAD-60B8-48D9-AE49-9EA2759D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AF703-2CCA-4EF8-B2E3-5008D8C1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777C3-3A76-49B7-8075-3E23FAC1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2466C-97E6-4180-9E90-C2AE4A68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EDC4D-299F-4A72-9B73-B497D961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A93A-D7CB-4945-A07E-02714FE2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87EB4-6B65-4A9D-8037-FB7C67F0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4F2EE-D853-4CE0-9446-8C9004C3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43C62-918C-4837-9971-30A29835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4B95D-D44E-45B0-9A38-C8E716CB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71C4F-2798-42DC-8BFB-A86343B0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31DA6-E73C-495B-B393-7174011C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00996-9E2D-46DD-B011-D14FDEF8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9BAF5-6BD0-42B3-BCF8-51C65472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AA695-744F-4001-849C-1EF100EB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59513-78D6-4BEA-80AB-9FFA48F2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D0E-3795-4BB5-9B89-6FEA3EEB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216E4-AA12-482B-A076-3C58C103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AE7E2-5404-4D44-B968-92C112A0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CCB0F-AF0D-44B6-8182-E05D658A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D6295-A7EF-480B-A5E1-41F986EE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01DAA-17C4-41AE-BEDC-157A9150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8A1FB-AFD2-421E-84DD-B1302DE6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8CAC2-C3B0-4270-8FD0-D021DD52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29395-9502-4319-985B-FA3E4415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76B82-E8A5-4D99-9F47-1B6AD5C0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0E670-3755-4DF7-8BE0-D7858461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3AFC-BB32-4D02-8217-20E320AD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AF6D0-5075-48A4-9B8C-6D4D88D1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2EDBA-9110-4A00-BB7A-B6912445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14B5B-6063-4977-A203-7AFEBCE1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5AC95-5863-4643-9B09-0186474A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F84E7-4450-4122-8EAC-D5F4F7B4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CE89D-07F4-462E-ACD6-DEE2E5D9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71998-FB89-4ADD-AD7D-5C623CCB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090F9-DCA1-4A58-B5E3-FC4F6A14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0F23B-9A06-4586-A762-CFA208A6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FC09C-820C-44B0-92CC-D6CF9788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82776-0622-4939-8F4A-75F166498654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E38F7-F338-4838-A2A6-15AA659D0086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0EA47-26AA-427A-B062-61C69D0E7B67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50E3E-4C10-4714-8192-B2E7665F0D50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9A8BE-6B70-4875-A5D6-7D9CE13DDD25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6BC90-9A67-4094-8B1C-F01A64A3122B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C491E-307A-484E-886B-E29C9293E358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93DC9-4305-45EE-A2B2-E9E0585C694D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E0C8A-726F-40B4-9BFD-3E88187EB7D7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C9129-A700-4E7C-90BA-8CA8DC1B8BFE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BBFEE-14F9-4FC6-BC5A-E856118803DB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21F64-C94C-49A4-AD67-F2C0ADB23CED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68A79-323C-4095-96F5-2752BF103784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ADF2D-0360-45B6-B4CF-0434E3747116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A50A5-A750-4331-B1E3-7EEAAF1E38A1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3AAF1-0AEF-45AE-B284-54D74BC8B80C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5768D-BB47-4C77-B8ED-D5930FA6176E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5EACC-5CFA-475C-A8A8-2A2CF9887919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Elements of the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       Short Story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4. Theme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The message or central idea conveyed by a story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May be stated directly or implied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5. Conflict 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3600" spc="-1" strike="noStrike">
                <a:solidFill>
                  <a:srgbClr val="595959"/>
                </a:solidFill>
                <a:latin typeface="Calisto MT"/>
              </a:rPr>
              <a:t>The tension created between two or more characters. </a:t>
            </a:r>
            <a:endParaRPr b="0" lang="en-US" sz="36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3600" spc="-1" strike="noStrike">
                <a:solidFill>
                  <a:srgbClr val="595959"/>
                </a:solidFill>
                <a:latin typeface="Calisto MT"/>
              </a:rPr>
              <a:t>The height of tension is called the </a:t>
            </a:r>
            <a:r>
              <a:rPr b="0" i="1" lang="en-US" sz="3600" spc="-1" strike="noStrike">
                <a:solidFill>
                  <a:srgbClr val="595959"/>
                </a:solidFill>
                <a:latin typeface="Calisto MT"/>
              </a:rPr>
              <a:t>climax </a:t>
            </a:r>
            <a:r>
              <a:rPr b="0" lang="en-US" sz="3600" spc="-1" strike="noStrike">
                <a:solidFill>
                  <a:srgbClr val="595959"/>
                </a:solidFill>
                <a:latin typeface="Calisto MT"/>
              </a:rPr>
              <a:t>(greatest intensity)</a:t>
            </a:r>
            <a:endParaRPr b="0" lang="en-US" sz="36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YPES OF CONFLIC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sto MT"/>
              </a:rPr>
              <a:t>Man versus 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sto MT"/>
              </a:rPr>
              <a:t>Self (internal)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sto MT"/>
              </a:rPr>
              <a:t>Man (external)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sto MT"/>
              </a:rPr>
              <a:t>Nature 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sto MT"/>
              </a:rPr>
              <a:t>Supernatural 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sto MT"/>
              </a:rPr>
              <a:t>Society 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7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500"/>
                            </p:stCondLst>
                            <p:childTnLst>
                              <p:par>
                                <p:cTn id="1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sto MT"/>
              </a:rPr>
              <a:t>1. Plot 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listo MT"/>
              </a:rPr>
              <a:t>the series of related events in a literary work</a:t>
            </a:r>
            <a:endParaRPr b="0" lang="en-US" sz="4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8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Plot Char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75" name="Content Placeholder 3" descr="THE_PARTS_OF_A_PLOT_01.gif"/>
          <p:cNvPicPr/>
          <p:nvPr/>
        </p:nvPicPr>
        <p:blipFill>
          <a:blip r:embed="rId2"/>
          <a:srcRect l="-21424" t="0" r="-21424" b="0"/>
          <a:stretch/>
        </p:blipFill>
        <p:spPr>
          <a:xfrm>
            <a:off x="-304920" y="2590920"/>
            <a:ext cx="94489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Plot Chart Definition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39800" y="2666880"/>
            <a:ext cx="766296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601"/>
              </a:spcAft>
              <a:buClr>
                <a:srgbClr val="80b60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Exposition: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The beginning of a story. Characters are introduced.  We learn the setting and are introduced to the main conflict (main problem)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601"/>
              </a:spcAft>
              <a:buClr>
                <a:srgbClr val="80b60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Rising Action: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The building of interest or suspense occurs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601"/>
              </a:spcAft>
              <a:buClr>
                <a:srgbClr val="80b60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Climax: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The peak or turning point of the story. Usually the main character comes face-to-face with a conflict. 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601"/>
              </a:spcAft>
              <a:buClr>
                <a:srgbClr val="80b60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Falling Action: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All loose ends of the plot are tied up. Leads to the resolution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601"/>
              </a:spcAft>
              <a:buClr>
                <a:srgbClr val="80b60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Resolution: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The conflict is ended and the story ends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2. Setting 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listo MT"/>
              </a:rPr>
              <a:t>the literal time (when), place (where), and atmosphere of a literary work </a:t>
            </a:r>
            <a:endParaRPr b="0" lang="en-US" sz="4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3. Character 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listo MT"/>
              </a:rPr>
              <a:t>the people or animals that who participate in the action (plot)</a:t>
            </a:r>
            <a:endParaRPr b="0" lang="en-US" sz="4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haracterization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4400" spc="-1" strike="noStrike">
                <a:solidFill>
                  <a:srgbClr val="595959"/>
                </a:solidFill>
                <a:latin typeface="Calisto MT"/>
              </a:rPr>
              <a:t>the methods used by the author to acquaint the reader with the inhabitants in the literary work and to make the character seem more realistic</a:t>
            </a:r>
            <a:endParaRPr b="0" lang="en-US" sz="4400" spc="-1" strike="noStrike">
              <a:solidFill>
                <a:srgbClr val="595959"/>
              </a:solidFill>
              <a:latin typeface="Calisto MT"/>
            </a:endParaRPr>
          </a:p>
          <a:p>
            <a:pPr marL="312120" indent="-31212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Methods of Characterization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39800" y="2209680"/>
            <a:ext cx="766296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sto MT"/>
              </a:rPr>
              <a:t>Direct description: </a:t>
            </a:r>
            <a:r>
              <a:rPr b="1" i="1" lang="en-US" sz="2400" spc="-1" strike="noStrike">
                <a:solidFill>
                  <a:srgbClr val="595959"/>
                </a:solidFill>
                <a:latin typeface="Calisto MT"/>
              </a:rPr>
              <a:t>Tells about a character. </a:t>
            </a: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Narrator reveals</a:t>
            </a:r>
            <a:r>
              <a:rPr b="1" lang="en-US" sz="24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details about the physical appearance, age or personality of the character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Ex: Bobby is a student and a basketball player.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sto MT"/>
              </a:rPr>
              <a:t>Indirect description: </a:t>
            </a:r>
            <a:r>
              <a:rPr b="1" i="1" lang="en-US" sz="2400" spc="-1" strike="noStrike">
                <a:solidFill>
                  <a:srgbClr val="595959"/>
                </a:solidFill>
                <a:latin typeface="Calisto MT"/>
              </a:rPr>
              <a:t>Shows about a character. </a:t>
            </a: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The author reveals</a:t>
            </a:r>
            <a:r>
              <a:rPr b="1" lang="en-US" sz="24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the character’s own word, actions and thought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Ex: Bobby works hard writing papers each night and plays hard on the court.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ypes of Character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39800" y="2344680"/>
            <a:ext cx="766296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Protagonist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Main character in the story- usually hero typ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Antagonist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Person or force against protagonist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Static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character that does not chang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Dynamic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character experiences epiphany, changes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Flat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simple characteristics, not deep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Round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complex characteristics, deep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17:49:34Z</dcterms:created>
  <dc:creator>Svoboda, Kathy</dc:creator>
  <dc:description/>
  <dc:language>en-US</dc:language>
  <cp:lastModifiedBy>sitter</cp:lastModifiedBy>
  <dcterms:modified xsi:type="dcterms:W3CDTF">2013-01-10T18:48:53Z</dcterms:modified>
  <cp:revision>15</cp:revision>
  <dc:subject/>
  <dc:title>   Elements of the        Short Story</dc:title>
</cp:coreProperties>
</file>