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7E59-7299-46CB-A51F-58F0A01C9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1422-BD44-4AD3-AF0B-6A2674E95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FDA899-2420-4CED-9300-BA2797604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CBA5D7-468F-493B-926E-165EC5189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008CEE-09BA-4C01-8AF2-FAC6E31BA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A1E0BC-A362-4CEB-963D-3C4148982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F99212-9911-4FDB-84A4-845ED8DEF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B8A9CF-F3D2-4E16-B78C-762C7105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B0989C-2B84-473D-97D0-D4F69C335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6B19BD-C88F-4B56-8432-229B0BBF8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7B4904-A61B-4683-8EF3-FE9C4C001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155F-2421-4423-BFD5-06AA7A5B4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D005-5246-4CAA-A33A-7E98873E8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4AFA3-2248-428A-AAE1-DFDF4123D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66C73-EEBF-4FF5-898E-F827C6936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0E4CB-9CEA-4A90-95D8-290B4A82E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BF5F2-DA95-440F-9FD9-84C9C8A86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A2E06-AD84-445E-9028-2D221FC34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BBFDB-BCB4-438E-98DD-16466281E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83751-93B8-47A7-8F0C-0F2CE38B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9B81-9A9A-494C-B8B3-C0DF6472C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73F1B-8080-4EE7-AA67-73AB3EA6A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EEF34-DF81-4CCF-9F74-F88CFB8E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9FC15-7AAF-4A87-81D1-E68ED60D8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EA0D3-C7F0-4922-906D-1C5CED32A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A199E-2AB0-4C06-B161-3D565DFC3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E79D7-1A76-47C8-91B9-F9EB519DB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BD1E5-D583-4B25-8DA9-ACA07548D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B1144-C7EA-4A35-9FCE-A6248C02B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4E8AC-D12D-4521-8DFE-62D9E8216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6BF4B-0BCA-4985-9023-D3A323526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EFF5-293A-4CE1-AB18-ED5E808A9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8FC7E-67D2-4D16-93C7-0DFD6C0C9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44ED7-709B-485B-967D-799F76858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76EBD-A48B-43DC-9F08-F54756BDF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65D70-21F2-470F-B4DD-A6FCAF2E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C28EF-B2C3-4776-90F7-A1E39D319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F8F1F-AA0F-433F-8BB6-17F39243F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65B8D-D62D-4B85-9459-A996FADF1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15985-0DD0-4131-BACE-E2C4E8446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061A3-7E01-45C3-885D-086D10B23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4E1FD-BE9F-4E77-B067-D700F4BB1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A7D4-824B-4D36-B874-172EAFB9D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A2995-51BD-4436-9978-C445F04B8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6C862-91C1-4B62-BAC3-7AB249C8E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CAC23-6E86-4EF7-9205-1677410C4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0CAC9-1447-49FC-8CDC-A41D982D6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A6F7C-351C-4C39-9F97-E8239126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EC816-ECA6-4342-BA29-D580662A9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1229F-B1BF-4B4B-9A48-530761EAC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D671A-4C92-42F9-878A-F947B872B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E4822-8F50-4493-ACE6-3E6CFF9E5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4C81CC-661C-4FEC-81C0-3865D2602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CD7F-9642-4044-B637-00EC0C8B3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7EE668-44F0-403C-823F-9E3F9AC9A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D07D7-0451-4378-9F1A-15206B3DC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5DFE5-493B-44A4-9702-588AA2226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837EA8-4308-405C-BACB-ABF994A44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0D6174-D1D2-4408-B538-D2587E982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1E7694-4022-4D21-8E21-F2A88B983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48B6C8-994C-4430-8F1C-1622484F7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6484D9-593A-4916-8E4A-D44BEA6AE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FBA083-B83C-4C2D-86E6-FC9544646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E5051-53D0-481F-934C-9FCB1A2CA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B55D-9F17-41F3-ACA1-70D4D0F04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91F61-1B24-48B5-AD27-1DC08D391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74352B-C2C2-4B50-853F-CEE9245A4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55908D-502F-4FAD-BEBE-2287C50E2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2E97F2-6023-4EEE-8545-FACD6A10A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45CFB2-A576-4C51-BA93-9D20CDB23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7041E2-EAF4-44B3-9336-43CD45C2E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F4AE15-9520-4104-9BBC-9365E07F4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DB99D6-3C1D-4621-970D-7421BA2E0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58869A-E404-4698-A06B-E862830E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D52AE1-A9D8-46BE-BAD8-9BB6DBE6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83ED-1C82-4C4E-BD2E-D34CDD8B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E1BF0F-AF54-4308-9555-E540AC9C2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97DBC-4FA9-4ED2-83CB-3C5F27693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1CD5DD-1208-4242-B73E-ADC2FEDC5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399290-127C-4540-A30B-B47247C19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371FD1-2A1D-409D-82C1-982EFD7E7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5163E2-D1F8-4EE9-A8F6-8D8E8E68B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351D9A-5D95-49F4-B407-2E269A659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DF08D6-D292-46D0-9030-01B8A5C17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FB8594-723A-4BF1-86F4-1C62B901E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6567A9-49B9-4667-A988-DA6AAD21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3733-58FF-4711-AB55-11F4FF179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61B9DC-61C9-457A-8D3F-6599304D4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31708F-7596-47B1-ABB4-751A152A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CBC875-9AA6-48B8-B861-698841DCF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A1172D-36BD-4683-8099-0231328CB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68FBDE-913C-42E1-B89C-917FBA3FC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E0452A-272F-4432-88CC-25DD621C0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9C4DFE-946B-48F9-84DC-9F230E918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2A116C-53E3-4085-8245-7885B1D20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063466-273A-4C94-867A-46CF86B3C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B6812F-663A-45B1-9409-CBEB4C2EF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9389-E44F-4E5A-A112-B211AE028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592F2E-4C8C-4A06-B754-2EF470616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B0482F-003E-46B4-B4DE-DBE49333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6C5015-8CAB-43A0-8E0E-0D4A5C5B7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AC495E-C5C1-48BB-AA57-1B7E90B62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B28B05-8749-4D9A-9567-0CF917F7C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17F40A-842B-42A9-B65F-E69C2B511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A71E56-2823-4B5E-AB91-FD9A1529B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94C1B4-95EF-4326-93D5-0273AB540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32DB06-BC14-46AC-A195-88FC53F6F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A5FEEE-778B-4FE9-B2EF-FE83DB890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D1477E-9FFE-4084-B56F-F1B3A8F0663F}" type="datetime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33E107-B71B-4D9B-AAE3-1270FC5E2A01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8373960" y="5803920"/>
            <a:ext cx="2048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b606"/>
                </a:solidFill>
                <a:latin typeface="Wingdings"/>
                <a:ea typeface="Wingdings"/>
              </a:rPr>
              <a:t>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63A953-1CDB-421E-925C-17F5F7BD3AB1}" type="datetime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F3169A-E2B9-428D-803C-5C18E47AAC9E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6"/>
          <p:cNvSpPr/>
          <p:nvPr/>
        </p:nvSpPr>
        <p:spPr>
          <a:xfrm>
            <a:off x="8373960" y="5803920"/>
            <a:ext cx="2048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b606"/>
                </a:solidFill>
                <a:latin typeface="Wingdings"/>
                <a:ea typeface="Wingdings"/>
              </a:rPr>
              <a:t>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9BD903-9614-40E8-9CAD-1EC304C1A917}" type="datetime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7238880" y="6356520"/>
            <a:ext cx="144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F6E07E-7BA6-477B-AE09-162E90962333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213120-4B72-4C41-86D5-15D27512EB3D}" type="datetime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690335-0D2C-446D-B48F-2E341DAD00DC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368609-BF47-46BD-BFE1-2690EF60415E}" type="datetime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6512C3-B1F3-4FFF-B187-938A76A559C9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076291-258A-4CF5-AAD1-CC9E02916A3E}" type="datetime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EF3536-43E3-4EB3-A7FD-A4D5E76CCB0A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4E7203-1ACD-4672-8C85-88D1BC9905D3}" type="datetime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0A9C35-EBC8-4B5C-A336-F77D9C7AD92F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6B1A19-54EF-437E-A596-292B0E224501}" type="datetime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828284-033C-4C80-9DB5-78A42178E794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0EEA6C-C9C0-4FA5-B240-BE01160AADAE}" type="datetime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00E6CD-6ACC-4868-8D5A-3C5C51E4FD88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228160" cy="192744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sto MT"/>
              </a:rPr>
              <a:t>   </a:t>
            </a:r>
            <a:r>
              <a:rPr b="0" lang="en-US" sz="6000" spc="-1" strike="noStrike">
                <a:solidFill>
                  <a:srgbClr val="ffffff"/>
                </a:solidFill>
                <a:latin typeface="Calisto MT"/>
              </a:rPr>
              <a:t>Elements of the</a:t>
            </a: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Calisto MT"/>
              </a:rPr>
              <a:t>       Short Story</a:t>
            </a:r>
            <a:endParaRPr b="0" lang="en-US" sz="6000" spc="-1" strike="noStrike">
              <a:solidFill>
                <a:srgbClr val="ffffff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4. Theme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sto MT"/>
              </a:rPr>
              <a:t>The message or central idea conveyed by a story</a:t>
            </a:r>
            <a:endParaRPr b="0" lang="en-US" sz="28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sto MT"/>
              </a:rPr>
              <a:t>May be stated directly or implied</a:t>
            </a:r>
            <a:endParaRPr b="0" lang="en-US" sz="28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5. Conflict 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	</a:t>
            </a:r>
            <a:r>
              <a:rPr b="0" lang="en-US" sz="3600" spc="-1" strike="noStrike">
                <a:solidFill>
                  <a:srgbClr val="595959"/>
                </a:solidFill>
                <a:latin typeface="Calisto MT"/>
              </a:rPr>
              <a:t>The tension created between two or more characters. </a:t>
            </a:r>
            <a:endParaRPr b="0" lang="en-US" sz="36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listo MT"/>
              </a:rPr>
              <a:t>	</a:t>
            </a:r>
            <a:r>
              <a:rPr b="0" lang="en-US" sz="3600" spc="-1" strike="noStrike">
                <a:solidFill>
                  <a:srgbClr val="595959"/>
                </a:solidFill>
                <a:latin typeface="Calisto MT"/>
              </a:rPr>
              <a:t>The height of tension is called the </a:t>
            </a:r>
            <a:r>
              <a:rPr b="0" i="1" lang="en-US" sz="3600" spc="-1" strike="noStrike">
                <a:solidFill>
                  <a:srgbClr val="595959"/>
                </a:solidFill>
                <a:latin typeface="Calisto MT"/>
              </a:rPr>
              <a:t>climax </a:t>
            </a:r>
            <a:r>
              <a:rPr b="0" lang="en-US" sz="3600" spc="-1" strike="noStrike">
                <a:solidFill>
                  <a:srgbClr val="595959"/>
                </a:solidFill>
                <a:latin typeface="Calisto MT"/>
              </a:rPr>
              <a:t>(greatest intensity)</a:t>
            </a:r>
            <a:endParaRPr b="0" lang="en-US" sz="36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TYPES OF CONFLIC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sto MT"/>
              </a:rPr>
              <a:t>Man versus </a:t>
            </a:r>
            <a:endParaRPr b="0" lang="en-US" sz="3200" spc="-1" strike="noStrike">
              <a:solidFill>
                <a:srgbClr val="595959"/>
              </a:solidFill>
              <a:latin typeface="Calisto MT"/>
            </a:endParaRPr>
          </a:p>
          <a:p>
            <a:pPr lvl="3" marL="1371600" indent="-336600" algn="just">
              <a:lnSpc>
                <a:spcPct val="9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sto MT"/>
              </a:rPr>
              <a:t>Self (internal)</a:t>
            </a:r>
            <a:endParaRPr b="0" lang="en-US" sz="3200" spc="-1" strike="noStrike">
              <a:solidFill>
                <a:srgbClr val="595959"/>
              </a:solidFill>
              <a:latin typeface="Calisto MT"/>
            </a:endParaRPr>
          </a:p>
          <a:p>
            <a:pPr lvl="3" marL="1371600" indent="-336600" algn="just">
              <a:lnSpc>
                <a:spcPct val="9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sto MT"/>
              </a:rPr>
              <a:t>Man (external)</a:t>
            </a:r>
            <a:endParaRPr b="0" lang="en-US" sz="3200" spc="-1" strike="noStrike">
              <a:solidFill>
                <a:srgbClr val="595959"/>
              </a:solidFill>
              <a:latin typeface="Calisto MT"/>
            </a:endParaRPr>
          </a:p>
          <a:p>
            <a:pPr lvl="3" marL="1371600" indent="-336600" algn="just">
              <a:lnSpc>
                <a:spcPct val="9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sto MT"/>
              </a:rPr>
              <a:t>Nature </a:t>
            </a:r>
            <a:endParaRPr b="0" lang="en-US" sz="3200" spc="-1" strike="noStrike">
              <a:solidFill>
                <a:srgbClr val="595959"/>
              </a:solidFill>
              <a:latin typeface="Calisto MT"/>
            </a:endParaRPr>
          </a:p>
          <a:p>
            <a:pPr lvl="3" marL="1371600" indent="-336600" algn="just">
              <a:lnSpc>
                <a:spcPct val="9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sto MT"/>
              </a:rPr>
              <a:t>Supernatural </a:t>
            </a:r>
            <a:endParaRPr b="0" lang="en-US" sz="3200" spc="-1" strike="noStrike">
              <a:solidFill>
                <a:srgbClr val="595959"/>
              </a:solidFill>
              <a:latin typeface="Calisto MT"/>
            </a:endParaRPr>
          </a:p>
          <a:p>
            <a:pPr lvl="3" marL="1371600" indent="-336600" algn="just">
              <a:lnSpc>
                <a:spcPct val="9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sto MT"/>
              </a:rPr>
              <a:t>Society </a:t>
            </a:r>
            <a:endParaRPr b="0" lang="en-US" sz="3200" spc="-1" strike="noStrike">
              <a:solidFill>
                <a:srgbClr val="595959"/>
              </a:solidFill>
              <a:latin typeface="Calisto MT"/>
            </a:endParaRPr>
          </a:p>
          <a:p>
            <a:pPr lvl="3" marL="1371600" indent="-336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 algn="just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4500"/>
                            </p:stCondLst>
                            <p:childTnLst>
                              <p:par>
                                <p:cTn id="16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500"/>
                            </p:stCondLst>
                            <p:childTnLst>
                              <p:par>
                                <p:cTn id="17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8500"/>
                            </p:stCondLst>
                            <p:childTnLst>
                              <p:par>
                                <p:cTn id="18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Calisto MT"/>
              </a:rPr>
              <a:t>1. Plot </a:t>
            </a:r>
            <a:br>
              <a:rPr sz="3700"/>
            </a:br>
            <a:endParaRPr b="0" lang="en-US" sz="37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959"/>
                </a:solidFill>
                <a:latin typeface="Calisto MT"/>
              </a:rPr>
              <a:t>the series of related events in a literary work</a:t>
            </a:r>
            <a:endParaRPr b="0" lang="en-US" sz="48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8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Plot Char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375" name="Content Placeholder 3" descr="THE_PARTS_OF_A_PLOT_01.gif"/>
          <p:cNvPicPr/>
          <p:nvPr/>
        </p:nvPicPr>
        <p:blipFill>
          <a:blip r:embed="rId2"/>
          <a:srcRect l="-21424" t="0" r="-21424" b="0"/>
          <a:stretch/>
        </p:blipFill>
        <p:spPr>
          <a:xfrm>
            <a:off x="-304920" y="2590920"/>
            <a:ext cx="944892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Plot Chart Definitions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739800" y="2666880"/>
            <a:ext cx="7662960" cy="398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01"/>
              </a:spcBef>
              <a:spcAft>
                <a:spcPts val="601"/>
              </a:spcAft>
              <a:buClr>
                <a:srgbClr val="80b60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Calisto MT"/>
              </a:rPr>
              <a:t>Exposition: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 The beginning of a story. Characters are introduced.  We learn the setting and are introduced to the main conflict (main problem).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spcAft>
                <a:spcPts val="601"/>
              </a:spcAft>
              <a:buClr>
                <a:srgbClr val="80b60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Calisto MT"/>
              </a:rPr>
              <a:t>Rising Action: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 The building of interest or suspense occurs.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spcAft>
                <a:spcPts val="601"/>
              </a:spcAft>
              <a:buClr>
                <a:srgbClr val="80b60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Calisto MT"/>
              </a:rPr>
              <a:t>Climax: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 The peak or turning point of the story. Usually the main character comes face-to-face with a conflict.  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spcAft>
                <a:spcPts val="601"/>
              </a:spcAft>
              <a:buClr>
                <a:srgbClr val="80b60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Calisto MT"/>
              </a:rPr>
              <a:t>Falling Action: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 All loose ends of the plot are tied up. Leads to the resolution.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spcAft>
                <a:spcPts val="601"/>
              </a:spcAft>
              <a:buClr>
                <a:srgbClr val="80b60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Calisto MT"/>
              </a:rPr>
              <a:t>Resolution: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 The conflict is ended and the story ends.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2. Setting 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959"/>
                </a:solidFill>
                <a:latin typeface="Calisto MT"/>
              </a:rPr>
              <a:t>the literal time (when), place (where), and atmosphere of a literary work </a:t>
            </a:r>
            <a:endParaRPr b="0" lang="en-US" sz="48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" dur="2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3. Character 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959"/>
                </a:solidFill>
                <a:latin typeface="Calisto MT"/>
              </a:rPr>
              <a:t>the people or animals that who participate in the action (plot)</a:t>
            </a:r>
            <a:endParaRPr b="0" lang="en-US" sz="48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haracterization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959"/>
                </a:solidFill>
                <a:latin typeface="Calisto MT"/>
              </a:rPr>
              <a:t> </a:t>
            </a:r>
            <a:r>
              <a:rPr b="0" lang="en-US" sz="4400" spc="-1" strike="noStrike">
                <a:solidFill>
                  <a:srgbClr val="595959"/>
                </a:solidFill>
                <a:latin typeface="Calisto MT"/>
              </a:rPr>
              <a:t>the methods used by the author to acquaint the reader with the inhabitants in the literary work and to make the character seem more realistic</a:t>
            </a:r>
            <a:endParaRPr b="0" lang="en-US" sz="4400" spc="-1" strike="noStrike">
              <a:solidFill>
                <a:srgbClr val="595959"/>
              </a:solidFill>
              <a:latin typeface="Calisto MT"/>
            </a:endParaRPr>
          </a:p>
          <a:p>
            <a:pPr marL="312120" indent="-31212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p:transition>
    <p:fad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750"/>
                            </p:stCondLst>
                            <p:childTnLst>
                              <p:par>
                                <p:cTn id="5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Methods of Characterization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739800" y="2209680"/>
            <a:ext cx="766296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637560" indent="-312840"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alisto MT"/>
              </a:rPr>
              <a:t>Direct description: </a:t>
            </a:r>
            <a:r>
              <a:rPr b="1" i="1" lang="en-US" sz="2400" spc="-1" strike="noStrike">
                <a:solidFill>
                  <a:srgbClr val="595959"/>
                </a:solidFill>
                <a:latin typeface="Calisto MT"/>
              </a:rPr>
              <a:t>Tells about a character. </a:t>
            </a:r>
            <a:r>
              <a:rPr b="0" lang="en-US" sz="2400" spc="-1" strike="noStrike">
                <a:solidFill>
                  <a:srgbClr val="595959"/>
                </a:solidFill>
                <a:latin typeface="Calisto MT"/>
              </a:rPr>
              <a:t>Narrator reveals</a:t>
            </a:r>
            <a:r>
              <a:rPr b="1" lang="en-US" sz="2400" spc="-1" strike="noStrike">
                <a:solidFill>
                  <a:srgbClr val="595959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595959"/>
                </a:solidFill>
                <a:latin typeface="Calisto MT"/>
              </a:rPr>
              <a:t>details about the physical appearance, age or personality of the character 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lvl="1" marL="637560" indent="-312840"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sto MT"/>
              </a:rPr>
              <a:t>Ex: Bobby is a student and a basketball player.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lvl="1" marL="637560" indent="-312840"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lvl="1" marL="637560" indent="-312840"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alisto MT"/>
              </a:rPr>
              <a:t>Indirect description: </a:t>
            </a:r>
            <a:r>
              <a:rPr b="1" i="1" lang="en-US" sz="2400" spc="-1" strike="noStrike">
                <a:solidFill>
                  <a:srgbClr val="595959"/>
                </a:solidFill>
                <a:latin typeface="Calisto MT"/>
              </a:rPr>
              <a:t>Shows about a character. </a:t>
            </a:r>
            <a:r>
              <a:rPr b="0" lang="en-US" sz="2400" spc="-1" strike="noStrike">
                <a:solidFill>
                  <a:srgbClr val="595959"/>
                </a:solidFill>
                <a:latin typeface="Calisto MT"/>
              </a:rPr>
              <a:t>The author reveals</a:t>
            </a:r>
            <a:r>
              <a:rPr b="1" lang="en-US" sz="2400" spc="-1" strike="noStrike">
                <a:solidFill>
                  <a:srgbClr val="595959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595959"/>
                </a:solidFill>
                <a:latin typeface="Calisto MT"/>
              </a:rPr>
              <a:t>the character’s own word, actions and thoughts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lvl="1" marL="637560" indent="-312840"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sto MT"/>
              </a:rPr>
              <a:t>Ex: Bobby works hard writing papers each night and plays hard on the court.</a:t>
            </a: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  <a:p>
            <a:pPr lvl="1" marL="637560" indent="-312840"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8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8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80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800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800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Types of Characters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739800" y="2344680"/>
            <a:ext cx="7662960" cy="42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Calisto MT"/>
              </a:rPr>
              <a:t>Protagonist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: Main character in the story- usually hero type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Calisto MT"/>
              </a:rPr>
              <a:t>Antagonist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: Person or force against protagonist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Calisto MT"/>
              </a:rPr>
              <a:t>Static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: character that does not change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Calisto MT"/>
              </a:rPr>
              <a:t>Dynamic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: character experiences epiphany, changes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Calisto MT"/>
              </a:rPr>
              <a:t>Flat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: simple characteristics, not deep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Calisto MT"/>
              </a:rPr>
              <a:t>Round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: complex characteristics, deep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0T17:49:34Z</dcterms:created>
  <dc:creator>Svoboda, Kathy</dc:creator>
  <dc:description/>
  <dc:language>en-US</dc:language>
  <cp:lastModifiedBy>sitter</cp:lastModifiedBy>
  <dcterms:modified xsi:type="dcterms:W3CDTF">2013-01-10T18:48:53Z</dcterms:modified>
  <cp:revision>15</cp:revision>
  <dc:subject/>
  <dc:title>   Elements of the        Short Story</dc:title>
</cp:coreProperties>
</file>