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72CA-6972-4F68-B42A-8EC03CBF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6D0D-92DA-45B5-AAC0-F652E3BA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43A7B-CAB7-43DA-9D59-3DDD1A74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F2590-37FF-4BE0-8A96-3D1A8643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22926-F752-4D87-ABCF-6548D8F7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85AF1-48CB-4A38-B221-13220E3A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F47CA-E64C-4E14-B900-8A29FD3B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8C8D5-B94F-4B72-A45C-BC72E374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A6AD0-1A5D-4E6F-A451-BFFF52B0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72478-34A3-4007-BD9A-C1945971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6A266-4FFA-4F99-A9AB-AD5F500F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7804-F851-4D13-8221-FBCCE443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84D6-191B-4469-B3D0-DA9B8DE3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16F6-0D25-4FD7-8FF0-64687C09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7123-0F5B-4504-81BC-944CCB6A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5024-E5F2-41E6-94F8-82540DCA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BA82-2487-4A4D-9600-708E522D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CC08-E1BC-44DE-9853-B8485168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2B77-3C29-4550-825C-0293FF3A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F9B9-ABB3-4096-BB5E-D2B7C21D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358D-85BD-41DE-B1E7-94C9497A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18CA-C200-42CC-A34B-52F42D7B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28C7-D7C2-42A2-83CD-8477BCEB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4288-E13F-48B6-B68F-6E775DE2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C319-6C1E-43C3-BED4-02F56A56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A14E-0480-452C-A10A-0D74EE6F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373CC-ABC4-4E00-BC4E-B067150B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60C4C-C5AF-479D-B583-CDBBA59D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22966-150B-4CD9-ABF6-A3CF1AF8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20542-40FA-49A4-91A6-C85A9D90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7FF6B-D6D4-4295-9183-7EBBC4B4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C4B2-064F-4459-B43E-B7428EFE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56B79-EB51-43A3-8709-397D8E83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9C156-A9D6-4333-A1A5-FCD206AC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D47CC-18FC-4527-A4CD-9FA44B98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7114B-6CC0-4A30-BEF9-6D211A06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ADE71-F20D-4428-9B39-6488DF28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0F99D-0877-471A-847D-4D0E2D5F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0E05C-904E-4045-A385-12509D4D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8F704-F4CB-43E7-A836-99742C12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60D2A-C0E9-4EC7-9B89-EF6C1299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D3724-214A-47C5-8B14-0D0ED5AD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E8DB-D064-4796-9728-A1A53C4D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D387F-975A-4A9B-B7BD-1922F74A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DC376-2D0D-4C6C-B5FE-24E7B4CF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358AA-8AD4-469C-8772-3AB11519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8BE66-237A-4237-B3D7-80F3F121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A8ACC-9F39-4C3A-8BAF-826F75D5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01313-5D3A-4EBD-8849-8A2E34CB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71303-6560-416E-9352-419045FA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1CDB3-FF1F-4FBF-B151-9A7013B5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E40AB-5890-449A-A0B6-321E5D89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9AE89-063E-45FB-9CBC-B4827862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552F-2379-4C76-A61F-C8DC63B1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0F661-8C67-457D-A29B-9B431F32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877D5-82B3-4E8F-8089-F40F8E7E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28FCE-D666-41DD-88CB-9EA6451D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A4F43-F9CD-4472-8074-887CE0B9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FAEB3-30A3-48CE-BDD7-763F01DD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2B6A1-1339-4C26-9072-661A3E31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2EDF1-499C-4109-B4C1-74F3063D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0BF7D-C1AA-4A72-A6DF-A7579E22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60DFE-1649-4EE1-86C4-EA2EE343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F6E17-BD5B-49E9-A348-9FC5210A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F008-1E7B-443E-B967-06DDB8D3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8C29C-82F1-427E-ABA9-C54959AA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58A16-01B0-4698-9F4B-AB7628FB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5D097-0E9D-4479-B369-46FBDF88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FA6CC-EB30-4041-94A0-220A8C27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64A5C-6CC5-4345-A905-88E74238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3E89A-FA76-4DE6-AD4F-3F9C8802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54291-1676-4F8A-87F5-F3819359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FFD3D-27E6-4AD0-89BA-9E9D4BB5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B39F6-FB53-4158-B46E-C4D6F35A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BB107-4059-416F-9606-F1D31527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F4B-196E-4250-A493-9643DEB3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FB32A-9107-427E-A1AA-FA100B19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F48B6-C20C-4963-92CC-E91DBBB5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89151-F773-4B4E-99E0-D265F379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86720-D524-40F2-843E-A66DEDE6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387AA-70D7-4569-9073-8CC54ABE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34F41-C29D-4CF9-8F71-71AB08BC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70E67-569C-4CEE-A359-70944660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E372B-EEC8-43A3-9FC6-EB7415D7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69681-CF6F-4271-A41D-FE05BB4A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400D1-5E87-47DF-AA2F-57BE2AAA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7A91-18A3-442E-B800-36430049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844B5-61CE-452C-AD40-9FBEAA9C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7940A-73D0-41FD-9AF4-9C708AC1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FD7FE-281A-400E-B9C8-C6727F18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4110D-1F06-4031-A398-28AB0F9F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D2796-2385-4D8D-9031-20EDD97C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188F6-BCEB-4BB1-ABEE-4CB928A7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2A8DB-85F5-4F87-B15A-0D275497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FC388-2D95-4B01-B745-52961A74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AAB3C-D5FF-4E1D-8A09-CEDD620A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E3E5C-C819-4AB9-8CC3-03532104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99E4-5806-4617-8FCF-A69179E4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D3538-58FC-4EBC-B074-88EE4C00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8D4AA-970C-4D2B-994E-2968EC3F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2956B-37C8-493E-BC27-2C137E47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A1B13-7E23-4816-A206-F300A35A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00B8B-97CF-4A55-A583-9BF1A4AD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3C8F3-D4DD-4497-BEB5-C5DFDBFF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1BC33-76C0-473E-BA1E-D3030B99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66F44-36DE-481A-B3DB-900821DA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70E5F-F17A-4BF3-9203-FC3488FE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412E9-6E15-44A7-872F-D5E377FD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8264E-3F54-4D06-86B2-0BE506CD9086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C0568-84C6-4FC2-993D-FBD5C8BD08E3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87B3D-362B-49A0-A8EC-03D696BB5C5D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93563-E912-4C46-916F-D90794BD33BB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689DC-71E9-45F4-9131-207A07E1E05F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171DAA-3735-4D5B-8025-95309D692CD9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95E69-B8E8-4479-98AE-4C7DC6A53C66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7390D1-F732-4CB5-8663-9ED5924800FB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63926-4AE1-43E2-B1BB-62CBC4AA978E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7DB94-D964-479F-A19D-B3C306BBECE9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3B7E9-7281-42C3-BAF2-CC9F99F39581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90A60-A0B4-40AC-A2DC-E87C06E8A453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FF5ED-BBA8-4AB7-8199-A0B10A7F8881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35846-2B7F-4A62-8913-C930FFF03F1A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22255-180E-4A04-9285-E1958618BB6D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F568A-6A14-441F-BD6F-93BE05D72D5B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E4D60-D6D2-4EE6-AC7E-D6F0DA62B845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850AB-DA8B-42D3-81EA-7FE726A2CED1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Elements of the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       Short Story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4. Theme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The message or central idea conveyed by a story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May be stated directly or implied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5. Conflict 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lang="en-US" sz="3600" spc="-1" strike="noStrike">
                <a:solidFill>
                  <a:srgbClr val="595959"/>
                </a:solidFill>
                <a:latin typeface="Calisto MT"/>
              </a:rPr>
              <a:t>The tension created between two or more characters. </a:t>
            </a:r>
            <a:endParaRPr b="0" lang="en-US" sz="36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lang="en-US" sz="3600" spc="-1" strike="noStrike">
                <a:solidFill>
                  <a:srgbClr val="595959"/>
                </a:solidFill>
                <a:latin typeface="Calisto MT"/>
              </a:rPr>
              <a:t>The height of tension is called the </a:t>
            </a:r>
            <a:r>
              <a:rPr b="0" i="1" lang="en-US" sz="3600" spc="-1" strike="noStrike">
                <a:solidFill>
                  <a:srgbClr val="595959"/>
                </a:solidFill>
                <a:latin typeface="Calisto MT"/>
              </a:rPr>
              <a:t>climax </a:t>
            </a:r>
            <a:r>
              <a:rPr b="0" lang="en-US" sz="3600" spc="-1" strike="noStrike">
                <a:solidFill>
                  <a:srgbClr val="595959"/>
                </a:solidFill>
                <a:latin typeface="Calisto MT"/>
              </a:rPr>
              <a:t>(greatest intensity)</a:t>
            </a:r>
            <a:endParaRPr b="0" lang="en-US" sz="36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TYPES OF CONFLIC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sto MT"/>
              </a:rPr>
              <a:t>Man versus 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sto MT"/>
              </a:rPr>
              <a:t>Self (internal)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sto MT"/>
              </a:rPr>
              <a:t>Man (external)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sto MT"/>
              </a:rPr>
              <a:t>Nature 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sto MT"/>
              </a:rPr>
              <a:t>Supernatural 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sto MT"/>
              </a:rPr>
              <a:t>Society 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7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500"/>
                            </p:stCondLst>
                            <p:childTnLst>
                              <p:par>
                                <p:cTn id="1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sto MT"/>
              </a:rPr>
              <a:t>1. Plot 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listo MT"/>
              </a:rPr>
              <a:t>the series of related events in a literary work</a:t>
            </a:r>
            <a:endParaRPr b="0" lang="en-US" sz="4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8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Plot Char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75" name="Content Placeholder 3" descr="THE_PARTS_OF_A_PLOT_01.gif"/>
          <p:cNvPicPr/>
          <p:nvPr/>
        </p:nvPicPr>
        <p:blipFill>
          <a:blip r:embed="rId2"/>
          <a:srcRect l="-21424" t="0" r="-21424" b="0"/>
          <a:stretch/>
        </p:blipFill>
        <p:spPr>
          <a:xfrm>
            <a:off x="-304920" y="2590920"/>
            <a:ext cx="94489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Plot Chart Definition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39800" y="2666880"/>
            <a:ext cx="766296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spcAft>
                <a:spcPts val="601"/>
              </a:spcAft>
              <a:buClr>
                <a:srgbClr val="80b60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Exposition: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The beginning of a story. Characters are introduced.  We learn the setting and are introduced to the main conflict (main problem)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spcAft>
                <a:spcPts val="601"/>
              </a:spcAft>
              <a:buClr>
                <a:srgbClr val="80b60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Rising Action: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The building of interest or suspense occurs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spcAft>
                <a:spcPts val="601"/>
              </a:spcAft>
              <a:buClr>
                <a:srgbClr val="80b60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Climax: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The peak or turning point of the story. Usually the main character comes face-to-face with a conflict. 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spcAft>
                <a:spcPts val="601"/>
              </a:spcAft>
              <a:buClr>
                <a:srgbClr val="80b60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Falling Action: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All loose ends of the plot are tied up. Leads to the resolution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spcAft>
                <a:spcPts val="601"/>
              </a:spcAft>
              <a:buClr>
                <a:srgbClr val="80b60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Resolution: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The conflict is ended and the story ends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2. Setting 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listo MT"/>
              </a:rPr>
              <a:t>the literal time (when), place (where), and atmosphere of a literary work </a:t>
            </a:r>
            <a:endParaRPr b="0" lang="en-US" sz="4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3. Character 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listo MT"/>
              </a:rPr>
              <a:t>the people or animals that who participate in the action (plot)</a:t>
            </a:r>
            <a:endParaRPr b="0" lang="en-US" sz="4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haracterization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4400" spc="-1" strike="noStrike">
                <a:solidFill>
                  <a:srgbClr val="595959"/>
                </a:solidFill>
                <a:latin typeface="Calisto MT"/>
              </a:rPr>
              <a:t>the methods used by the author to acquaint the reader with the inhabitants in the literary work and to make the character seem more realistic</a:t>
            </a:r>
            <a:endParaRPr b="0" lang="en-US" sz="4400" spc="-1" strike="noStrike">
              <a:solidFill>
                <a:srgbClr val="595959"/>
              </a:solidFill>
              <a:latin typeface="Calisto MT"/>
            </a:endParaRPr>
          </a:p>
          <a:p>
            <a:pPr marL="312120" indent="-31212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5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Methods of Characterization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739800" y="2209680"/>
            <a:ext cx="766296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sto MT"/>
              </a:rPr>
              <a:t>Direct description: </a:t>
            </a:r>
            <a:r>
              <a:rPr b="1" i="1" lang="en-US" sz="2400" spc="-1" strike="noStrike">
                <a:solidFill>
                  <a:srgbClr val="595959"/>
                </a:solidFill>
                <a:latin typeface="Calisto MT"/>
              </a:rPr>
              <a:t>Tells about a character. </a:t>
            </a: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Narrator reveals</a:t>
            </a:r>
            <a:r>
              <a:rPr b="1" lang="en-US" sz="24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details about the physical appearance, age or personality of the character 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Ex: Bobby is a student and a basketball player.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sto MT"/>
              </a:rPr>
              <a:t>Indirect description: </a:t>
            </a:r>
            <a:r>
              <a:rPr b="1" i="1" lang="en-US" sz="2400" spc="-1" strike="noStrike">
                <a:solidFill>
                  <a:srgbClr val="595959"/>
                </a:solidFill>
                <a:latin typeface="Calisto MT"/>
              </a:rPr>
              <a:t>Shows about a character. </a:t>
            </a: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The author reveals</a:t>
            </a:r>
            <a:r>
              <a:rPr b="1" lang="en-US" sz="24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the character’s own word, actions and thought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Ex: Bobby works hard writing papers each night and plays hard on the court.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Types of Character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39800" y="2344680"/>
            <a:ext cx="766296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Protagonist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Main character in the story- usually hero typ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Antagonist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Person or force against protagonist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Static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character that does not chang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Dynamic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character experiences epiphany, changes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Flat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simple characteristics, not deep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Round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complex characteristics, deep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17:49:34Z</dcterms:created>
  <dc:creator>Svoboda, Kathy</dc:creator>
  <dc:description/>
  <dc:language>en-US</dc:language>
  <cp:lastModifiedBy>sitter</cp:lastModifiedBy>
  <dcterms:modified xsi:type="dcterms:W3CDTF">2013-01-10T18:48:53Z</dcterms:modified>
  <cp:revision>15</cp:revision>
  <dc:subject/>
  <dc:title>   Elements of the        Short Story</dc:title>
</cp:coreProperties>
</file>