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FB4-896D-4D81-82B7-73263A1A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43F-C4B6-4CCB-ABA3-E7A4BF5F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26354-F1F2-4171-AEBB-6C2E9EC4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FCFC6-FFA6-41DB-A436-7D359CBE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B4D78-99B2-428C-AB75-48AD936E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0EBC5-E173-4B8F-80D3-75D933FB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4BDE0-258D-413B-9648-3A46220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F6E3B-776D-402F-8B5D-C4CC7FEE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362CA-D1F0-4988-827B-76759BAD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73FB9-7054-4E79-AC33-E1CFF81E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2C080-DFED-40A1-AC08-7B331410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3FA-C07F-40E1-BC36-8313BDF7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7AE-29B9-418D-8E45-99868CE2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D953-EAD7-4A73-8C43-7A9AAAE5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1367-47D3-43FD-9A64-449AB226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3D86-989C-4715-B27B-756CF548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96E0-9566-47E9-A09F-F876E5B3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DA19-5C41-488C-8091-7981688A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083C-07B4-475B-BFE7-9F889371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462B-9BA1-4693-B186-A09AD2DC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844-E8D9-416D-B032-7CB89BEA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9816-A83A-4B1C-AEFA-B3A4F918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2A28-CFFC-4831-BAEA-34590045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1B70-E380-4CCA-99BD-2A14A192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3401-1494-4437-BA16-0314E6E7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CC5A-D702-4A38-BB76-7ED253C8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9F7D-53C0-4121-ADB8-93E82509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3897-9884-4944-A3F3-B4C2C2B1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9AAF-2540-4369-95CF-3CD7087A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D9E25-4897-42F6-99A9-5FD723DB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74C9-BFE0-439F-90FE-459164B8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6E8-5394-4610-A66D-2AEF05CC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4DF4-2EE8-48E1-9F7C-2671FDA5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C2211-3DF5-4957-BD04-E780F396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F2DD-B0C6-48C7-9992-6189E7FE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E749-4C9E-4086-BF93-09DA87F9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EA9D-8201-4450-BF82-CE10F385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6248B-1E85-4A9A-8919-F1CA78B7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E98E-CC18-46C4-806E-94714AC0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7B9EB-5F86-4C80-B4ED-6349243B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BC62E-3287-443B-93E2-4D866A8C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C53E-9CF8-4C69-BDEB-1D20A852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49E-DB94-4C55-A565-BEB07773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01BC6-3B6E-4DDA-AE3D-ADAC28AF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33C9-FCFA-47A4-A39B-6F869A63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D7333-6B71-4FA4-842A-C74C9479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133EE-A69B-4344-95DF-08626CD7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1F54-FCB8-4AEA-9556-FABBF3BD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352D-C168-4AE7-A703-0AEA982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59F9-79CF-4E16-9E62-DD86121A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84135-50F2-4DE8-9A47-137C7D30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DB99-E46C-4E5D-A850-87F45CF7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2C1F-1321-4552-8830-11F0E974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7CC-70FF-406A-9997-79DEFA13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3AA00-92B4-49B4-B47B-219F77C2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5B475-870B-49BC-8DAE-9C140E86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3339D-6784-4F29-897E-663FA3BE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477C0-BA2B-4EC3-9692-98A78E1D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224C7-8EAB-4BD2-B5E3-4EE44A7D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10DA0-A889-46A4-AB55-B064F2BA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BC6FF-A652-4FCF-9B8D-13437E8C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E5F7B-8A8A-45C1-BED0-E02C174C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F2C3E-AE70-438F-AB21-8D275EDC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837CD-A7E8-4D66-A8D0-9E13E6BD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120-6CD6-4013-A2B8-6C6E6EDC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33CB0-7912-4A68-8F17-794AB5C4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1AD54-8C9D-48C0-B087-1194BE6F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5C31-6EF6-46FA-AE10-60F60C0F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B03B9-58C2-4D8D-81A7-814CD4A3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523C4-F254-428F-9EFA-208532BC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9377-3F2A-4666-B107-D5A37908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6EBB0-03B3-4B81-91C1-5D4340BE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ED355-E602-496A-BD79-E729FF8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A45EE-67BE-4DFB-A7AB-C647D9D3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BBCD-4B74-417F-9424-CCE060D6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404-757C-4BEE-9ADB-00C79B54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163C-56E2-4FC9-A474-08ED0CBC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8A66D-A94B-47FF-9923-55709D0C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16E3F-78D9-497E-8CB3-3930D5AB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ECDDA-D568-426D-BFAF-980CC490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B650-129E-4BD6-87C4-8A989F50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F5ADC-8842-4964-8E42-2CF7197A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C9D0E-2B71-48FD-BFA6-93D17F2F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9375-6826-4CC0-AA6C-7C00E73B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118E5-C130-4D6B-9AB4-8CB6A1BB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E20E6-E4EC-47CB-AC9A-AAD610A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C7E-521D-4783-9668-63E56DB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2CE09-F788-4E1D-A0F5-6DC6368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379C5-B192-4C40-8690-B521C547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051B0-F258-41B6-BF1D-A3C6C144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A6C9E-F814-433B-9651-98B22F08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F0B4A-1B5A-4D3C-B7D1-9A876EA7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E6322-1A85-4DBD-893F-8DF928A8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86E81-BD65-4CD5-A4FB-ECFCD5BC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7AAB1-74D2-4530-9168-5B37EEB2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3222C-A5E3-4787-B126-7D0E9292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40F8D-9D7F-4BF2-A12B-8CDF0D13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31B-682F-4831-8F1D-B8DA79C5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CF016-3F02-4739-A804-7F566D18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2395F-6E20-4629-859C-250B2632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8751B-B238-4D6E-AA88-4533DC4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90AD3-FDD0-4296-94E5-03E4672F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34189-999F-44CE-9FFA-118ADAF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E3E90-9FC5-4E42-9A9F-70EB816E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20D84-B07D-4E4B-A322-D1E6937E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0025B-E790-49A7-8C23-7F1AF1FC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76C75-F424-4EE2-AA2F-BE031A90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5B424-A102-4911-A332-4F78C221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D3CBD-0694-450A-BFE3-256701EBF663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218EB-4896-4718-AF52-030A8DC19C4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B625B-FEE7-4799-90AD-A163EF4B63ED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CA142-42AB-4902-AD51-F283AA93742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1F544-427C-40BC-AAAB-D646DF3D365F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98FFC-ABF8-4F1E-B915-1B25EFF87B1D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6D3FF-17BD-4680-92B1-46922450B00F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8448F-B4A1-4D3D-AEFC-FD8F54935CB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07973-F90D-413B-9449-3F848296ECAE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E8023-62D7-49F0-8939-25849389F63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7775B-6797-4B39-9390-EF390E583D2F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843C0-5AD7-43CC-B9F6-62C54E66215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D7CAD-5937-4B77-8270-D7315B056003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DD4A1-514A-49DD-BDD6-735DD8D237B7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2F661-4AB7-4CE7-8B62-0DB21022D294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A1DEC-7029-4707-97AE-A5D2CE3F27F6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822D2-33DA-430A-AA51-522C7EB42665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64AB8-0923-46F6-8C48-F6A148D84D2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Elements of th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       Short Story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4. Them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The message or central idea conveyed by a story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May be stated directly or implied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5. Conflict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The tension created between two or more characters. </a:t>
            </a: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The height of tension is called the </a:t>
            </a:r>
            <a:r>
              <a:rPr b="0" i="1" lang="en-US" sz="3600" spc="-1" strike="noStrike">
                <a:solidFill>
                  <a:srgbClr val="595959"/>
                </a:solidFill>
                <a:latin typeface="Calisto MT"/>
              </a:rPr>
              <a:t>climax 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(greatest intensity)</a:t>
            </a: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YPES OF CONFLIC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sto MT"/>
              </a:rPr>
              <a:t>Man versus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elf (internal)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Man (external)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Nature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upernatural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ociety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sto MT"/>
              </a:rPr>
              <a:t>1. Plot 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series of related events in a literary work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lot Char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5" name="Content Placeholder 3" descr="THE_PARTS_OF_A_PLOT_01.gif"/>
          <p:cNvPicPr/>
          <p:nvPr/>
        </p:nvPicPr>
        <p:blipFill>
          <a:blip r:embed="rId2"/>
          <a:srcRect l="-21424" t="0" r="-21424" b="0"/>
          <a:stretch/>
        </p:blipFill>
        <p:spPr>
          <a:xfrm>
            <a:off x="-304920" y="2590920"/>
            <a:ext cx="94489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lot Chart Definitio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39800" y="2666880"/>
            <a:ext cx="766296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Exposi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beginning of a story. Characters are introduced.  We learn the setting and are introduced to the main conflict (main problem)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ising Ac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building of interest or suspense occur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Climax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peak or turning point of the story. Usually the main character comes face-to-face with a conflict. 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Falling Ac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All loose ends of the plot are tied up. Leads to the resolution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esolu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conflict is ended and the story end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2. Setting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literal time (when), place (where), and atmosphere of a literary work 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. Character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people or animals that who participate in the action (plot)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haracteriza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4400" spc="-1" strike="noStrike">
                <a:solidFill>
                  <a:srgbClr val="595959"/>
                </a:solidFill>
                <a:latin typeface="Calisto MT"/>
              </a:rPr>
              <a:t>the methods used by the author to acquaint the reader with the inhabitants in the literary work and to make the character seem more realistic</a:t>
            </a:r>
            <a:endParaRPr b="0" lang="en-US" sz="44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Methods of Characteriza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39800" y="2209680"/>
            <a:ext cx="76629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Direct description: </a:t>
            </a:r>
            <a:r>
              <a:rPr b="1" i="1" lang="en-US" sz="2400" spc="-1" strike="noStrike">
                <a:solidFill>
                  <a:srgbClr val="595959"/>
                </a:solidFill>
                <a:latin typeface="Calisto MT"/>
              </a:rPr>
              <a:t>Tells about a character.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Narrator reveals</a:t>
            </a: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details about the physical appearance, age or personality of the character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Ex: Bobby is a student and a basketball player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Indirect description: </a:t>
            </a:r>
            <a:r>
              <a:rPr b="1" i="1" lang="en-US" sz="2400" spc="-1" strike="noStrike">
                <a:solidFill>
                  <a:srgbClr val="595959"/>
                </a:solidFill>
                <a:latin typeface="Calisto MT"/>
              </a:rPr>
              <a:t>Shows about a character.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e author reveals</a:t>
            </a: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e character’s own word, actions and thought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Ex: Bobby works hard writing papers each night and plays hard on the court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ypes of Character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39800" y="2344680"/>
            <a:ext cx="766296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Protagonis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Main character in the story- usually hero typ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Antagonis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Person or force against protagonis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Static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haracter that does not chan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Dynamic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haracter experiences epiphany, change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Fla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simple characteristics, not deep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ound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omplex characteristics, deep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7:49:34Z</dcterms:created>
  <dc:creator>Svoboda, Kathy</dc:creator>
  <dc:description/>
  <dc:language>en-US</dc:language>
  <cp:lastModifiedBy>sitter</cp:lastModifiedBy>
  <dcterms:modified xsi:type="dcterms:W3CDTF">2013-01-10T18:48:53Z</dcterms:modified>
  <cp:revision>15</cp:revision>
  <dc:subject/>
  <dc:title>   Elements of the        Short Story</dc:title>
</cp:coreProperties>
</file>